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5.jpeg" ContentType="image/jpeg"/>
  <Override PartName="/ppt/media/image14.gif" ContentType="image/gif"/>
  <Override PartName="/ppt/media/type.wav" ContentType="audio/x-wav"/>
  <Override PartName="/ppt/media/image13.png" ContentType="image/png"/>
  <Override PartName="/ppt/media/image6.jpeg" ContentType="image/jpeg"/>
  <Override PartName="/ppt/media/image12.png" ContentType="image/png"/>
  <Override PartName="/ppt/media/click.wav" ContentType="audio/x-wav"/>
  <Override PartName="/ppt/media/image1.jpeg" ContentType="image/jpeg"/>
  <Override PartName="/ppt/media/image2.jpeg" ContentType="image/jpeg"/>
  <Override PartName="/ppt/media/image7.jpeg" ContentType="image/jpeg"/>
  <Override PartName="/ppt/media/chimes.wav" ContentType="audio/x-wav"/>
  <Override PartName="/ppt/media/wind.wav" ContentType="audio/x-wav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39E-4F1A-4FA9-A295-F4B49A02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84D-CFB7-4ACB-9DA6-35CCA129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BEA-4909-49E4-80A8-87EC58BB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F7B-6E72-4D44-A689-54CC2398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6FF-A31D-4E34-AB50-9F24FDE2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84E-9C75-45A0-BF54-6FA4156A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3A8-5985-42E0-9168-1373989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CA1-25BA-47C3-B0E9-5FA5C111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695-A259-41EA-A1E1-21BB4544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63D-7B32-4FA6-8B4B-B921D41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0E0-AFA6-43A1-8760-567A572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237-6232-4E4B-B8AF-75EB8964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1ECE-4A34-441D-8683-EC79C232C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hyperlink" Target="file:///&#27700;&#22696;&#21160;&#30011;%20&#26539;&#26725;&#22812;&#27850;_&#35270;&#39057;&#22312;&#32447;&#35266;&#30475;%20-%2056.com_0.flv" TargetMode="External"/><Relationship Id="rId4" Type="http://schemas.openxmlformats.org/officeDocument/2006/relationships/hyperlink" Target="file:///&#27700;&#22696;&#21160;&#30011;%20&#26539;&#26725;&#22812;&#27850;_&#35270;&#39057;&#22312;&#32447;&#35266;&#30475;%20-%2056.com_0.flv" TargetMode="External"/><Relationship Id="rId5" Type="http://schemas.openxmlformats.org/officeDocument/2006/relationships/hyperlink" Target="file:///&#27700;&#22696;&#21160;&#30011;%20&#26539;&#26725;&#22812;&#27850;_&#35270;&#39057;&#22312;&#32447;&#35266;&#30475;%20-%2056.com_0.flv" TargetMode="External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0464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师大版三年级语文上册   第五单元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2421000"/>
            <a:ext cx="655308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第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25</a:t>
            </a: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  枫桥夜泊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32000" y="4292640"/>
            <a:ext cx="705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枫桥”是地点；“夜”是时间；“泊”是停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68360" y="476280"/>
            <a:ext cx="21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咏唱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1557360"/>
            <a:ext cx="52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水墨动画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——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枫桥夜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427640" y="2708280"/>
            <a:ext cx="396072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411280" y="2205000"/>
            <a:ext cx="43214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692280"/>
            <a:ext cx="583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张继，唐代诗人。他的诗，多是描写旅途感受和自然风光，写得自然朴素，情味深远。《枫桥夜泊》是诗人夜泊枫桥，见景色思己落第，心情抑郁，有感而发所写。由于《枫桥夜泊》这首绝句，枫桥和寒山寺成了人们向往的名胜之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11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1557360"/>
            <a:ext cx="554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枫桥夜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张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落乌啼霜满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江枫渔火对愁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姑苏城外寒山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夜半钟声到客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11280" y="404640"/>
            <a:ext cx="201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读诗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954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0" b="4671"/>
          <a:stretch/>
        </p:blipFill>
        <p:spPr>
          <a:xfrm>
            <a:off x="-25560" y="189000"/>
            <a:ext cx="9169560" cy="648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84720" y="1268280"/>
            <a:ext cx="27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34936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rcRect l="10625" t="0" r="0" b="0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20400" y="981000"/>
            <a:ext cx="11552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  <a:ea typeface="楷体_GB2312"/>
              </a:rPr>
              <a:t>月落乌啼霜满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26028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悟诗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1176" r="0" b="5857"/>
          <a:stretch/>
        </p:blipFill>
        <p:spPr>
          <a:xfrm>
            <a:off x="0" y="18900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635280" y="5734080"/>
            <a:ext cx="18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江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渔火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对愁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51280" y="189000"/>
            <a:ext cx="5292720" cy="511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4965" t="4970" r="6335" b="9039"/>
          <a:stretch/>
        </p:blipFill>
        <p:spPr>
          <a:xfrm>
            <a:off x="0" y="189000"/>
            <a:ext cx="4535640" cy="511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92360" y="55897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姑苏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城外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寒山寺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，夜半钟声到客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2420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64000" y="6294600"/>
            <a:ext cx="3780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3859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愁眠，大诗人李白曾经这样写道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03560" y="620640"/>
            <a:ext cx="1216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举头望明月，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李白《静夜思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8748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愁眠，大诗人杜甫曾经这样写道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5400" y="692280"/>
            <a:ext cx="1277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露从今夜白，月是故乡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杜甫《月夜忆舍弟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8675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是因为愁眠，王安石曾经这样写道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3120" y="422100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6520" y="2559240"/>
            <a:ext cx="115524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春风又绿江南岸，明月何时照我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王安石《泊船瓜洲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8200" y="5667480"/>
            <a:ext cx="851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8675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愁眠，诗人张九龄曾经这样写道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26760" y="620640"/>
            <a:ext cx="1216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海上生明月，天涯共此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张九龄《望月怀远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11120" y="6026040"/>
            <a:ext cx="578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848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因为愁眠，苏轼苏东坡曾经这样写道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57340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7000" y="620640"/>
            <a:ext cx="1155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明月几时有，把酒问青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——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苏轼《水调歌头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明月几时有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2:10:34Z</dcterms:created>
  <dc:creator>微软用户</dc:creator>
  <dc:description/>
  <dc:language>en-US</dc:language>
  <cp:lastModifiedBy>微软用户</cp:lastModifiedBy>
  <dcterms:modified xsi:type="dcterms:W3CDTF">2013-12-12T12:59:31Z</dcterms:modified>
  <cp:revision>10</cp:revision>
  <dc:subject/>
  <dc:title>幻灯片 1</dc:title>
</cp:coreProperties>
</file>