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06B-BF8F-4865-B770-44ECFE2A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4D7-F4D6-462F-A145-EB4A11DA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835-7E6B-4CEE-B5B4-2CF93A2D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17A-F4A7-4F62-A52F-DF8964E7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66C-C2F8-49B3-9CC5-E297AB7C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290-EFD1-43E6-854F-07ABF6E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B47-37AB-4991-A6F3-F0367372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4F8E-40EA-4D63-9F83-885F9ED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8F5-DB57-4A44-BA65-F716354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54BB-F0EE-4C53-8EF3-D211B72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11D-3DB7-4017-99B1-2494423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9E7-B2F9-430C-8C59-093013B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095-82F1-4CE4-A045-01DD252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EED-4858-421F-8027-FB07AF7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A71C-FF4B-4BC8-829F-28FF659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8AFB-5F7C-485C-8C95-CEDD74B8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510-65BF-4E88-9432-758EFCD0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A01D-C543-4D2C-9B0A-C5E856CA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6A1E-9BE9-44F7-96EF-D195050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C304-3540-4A6A-AA54-9A447F1F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5CB1-112C-4364-A892-4F0999E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B9D0-D028-49BF-A1C1-C9258EE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BF1-00A2-4D22-8D47-4F3E9299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A048-0FF9-40AF-9615-8C6E164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3843-8A06-4F53-924E-65D183F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C84D-7E7F-4E5D-AB90-1755D5A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F4004-7D96-40F5-9E55-2BAA7E6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FB7B-ACD1-436C-9426-4D6D6620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5FEE-948C-41C6-975B-F404B817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F531-F396-4A13-A1FA-38C57DEE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DB88-FA12-4569-9A9F-822494CB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DF69-BDB3-489E-A0D2-B4222D9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CF01-C70A-4B02-9F03-16896D2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8D7-45D5-4CB6-84ED-0AE44A80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B143-39A4-4523-90A7-BE23B6DD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E630-C9C6-46FC-9F48-B74EC0C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89FA-9A3F-48D6-A978-579D115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04FB-ED98-44D7-A3C7-1BE682F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2091-97ED-4EDE-B1EA-686B69E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1FC3-A3EB-4A6C-A9C5-A8050521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F412-BDC3-46E8-AA5A-6C6E0C1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29EA-06D8-4B40-8196-DA26445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7732-1799-4F60-A7AE-45D46CF1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8727-6B7A-4479-B5EF-3C24102E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11B-C6A5-4CC4-A487-1DE7A3D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38AD-9C75-4E7C-99A7-EE5CEE53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3D14-B162-4F76-9347-901B14A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42B4-F579-4492-8DC5-DB13492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FE65-49E7-4A9C-B398-43D4DBA8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65A0-6143-494A-A7BF-F0A9CB6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0338-B788-42B3-9A36-360667C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321B-5F42-429A-A50F-2554835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F660-7267-4995-A026-1B5C025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0125-5C3C-4BC3-86BD-20A66F9B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B3DF-7E6E-4C21-93EC-ADDEE57D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A97-DA14-4088-ADFD-13C3EF50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2198-FBFB-4BE0-9A27-92E917EA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BC4-3FA6-4128-819A-459A6ED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CBB-49A8-4C4A-9E95-CA86DE2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171-67E0-493B-877D-B6BE108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49120"/>
                  <a:gd name="textAreaBottom" fmla="*/ 2049480 h 204912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0960"/>
                  <a:gd name="textAreaBottom" fmla="*/ 391320 h 39096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48360"/>
                  <a:gd name="textAreaBottom" fmla="*/ 648720 h 64836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3F6A-7982-44B0-98B9-662F05871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BB0-710A-458F-B12A-D90D3126E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A8D8-AC98-4C62-BB13-29D31BF33F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37D-485F-4A53-A9B6-D59C08AFE35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75B-69FF-4B3B-AB72-AD422AA9E60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254240" y="3946680"/>
            <a:ext cx="664200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1" name="Picture 4" descr="U397P1T1D5990538F21DT20050305103149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2005_10_8_33979_533979"/>
          <p:cNvPicPr/>
          <p:nvPr/>
        </p:nvPicPr>
        <p:blipFill>
          <a:blip r:embed="rId3"/>
          <a:stretch/>
        </p:blipFill>
        <p:spPr>
          <a:xfrm>
            <a:off x="3780000" y="333360"/>
            <a:ext cx="952200" cy="647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6"/>
          <p:cNvSpPr/>
          <p:nvPr/>
        </p:nvSpPr>
        <p:spPr>
          <a:xfrm>
            <a:off x="1187280" y="23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S UI Gothic"/>
                <a:ea typeface="MS UI Gothic"/>
              </a:rPr>
              <a:t>国旗和太阳一同升起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3640" y="4149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韦伦双语学校四年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260360" y="5302080"/>
            <a:ext cx="7056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国旗在太阳的映照下，更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熠熠生辉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44720" y="4581360"/>
            <a:ext cx="742608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鲜艳的五星红旗飘然展开，千万双眼睛注视着冉冉升起的国旗，心中充满了自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404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042920" y="333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广场上，金水桥畔，响起了热烈的掌声和欢呼声。人们仰视高高飘扬的五星红旗，久久不愿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2"/>
          <p:cNvSpPr/>
          <p:nvPr/>
        </p:nvSpPr>
        <p:spPr>
          <a:xfrm>
            <a:off x="611280" y="476280"/>
            <a:ext cx="77040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我要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假如你就是天安门广场成千上万人中的一位，在观看完升旗仪式后，你有什么想对我们祖国母亲说的吗</a:t>
            </a: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?</a:t>
            </a:r>
            <a:r>
              <a:rPr b="1" lang="en-US" sz="4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020090915605478915185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http_imgload"/>
          <p:cNvPicPr/>
          <p:nvPr/>
        </p:nvPicPr>
        <p:blipFill>
          <a:blip r:embed="rId4"/>
          <a:stretch/>
        </p:blipFill>
        <p:spPr>
          <a:xfrm>
            <a:off x="1908000" y="0"/>
            <a:ext cx="547236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8" name="Picture 4" descr="http_imgload"/>
          <p:cNvPicPr/>
          <p:nvPr/>
        </p:nvPicPr>
        <p:blipFill>
          <a:blip r:embed="rId2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1" name="Picture 4" descr="2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4" name="Picture 4" descr="4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0" t="0" r="0" b="22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217080" cy="695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971640" y="1341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平淡   汇集   同胞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华侨   聚集   迈着   步伐   跨过   执旗手   水泄不通    气宇轩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冉冉升起    熠熠生辉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4" name="Picture 4" descr="国旗－五星红旗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1908000" y="71424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国旗和太阳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一同升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8" name="Picture 4" descr="国旗－五星红旗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1908000" y="71424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国旗和太阳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一同升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2"/>
          <p:cNvSpPr txBox="1"/>
          <p:nvPr/>
        </p:nvSpPr>
        <p:spPr>
          <a:xfrm>
            <a:off x="1619280" y="1341360"/>
            <a:ext cx="5111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468360" y="260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本课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248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1619280" y="14428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）的护旗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583360" y="2378160"/>
            <a:ext cx="27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）的方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826720" y="331488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）的执旗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619280" y="425124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）的步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2446200" y="1514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2446200" y="237816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2373480" y="33861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ff"/>
                </a:solidFill>
                <a:uFillTx/>
                <a:latin typeface="Arial"/>
              </a:rPr>
              <a:t>气宇轩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2446200" y="42512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齐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气宇轩昂的执旗手扛着五星红旗，左右是两名挎冲锋枪的护旗手，他们走在方阵的最前面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歌唱祖国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乐曲声中，战士们迈着整齐有力的步伐，跨过金水桥，穿过长安街，来到广场的旗杆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气宇轩昂的执旗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扛着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五星红旗，左右是两名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挎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冲锋枪的护旗手，他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方阵的最前面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歌唱祖国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乐曲声中，战士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迈着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整齐有力的步伐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跨过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金水桥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穿过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长安街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广场的旗杆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16059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7088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700360" y="5805360"/>
            <a:ext cx="46800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鲜艳的五星红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然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556000" y="5589720"/>
            <a:ext cx="46814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五星红旗在空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冉冉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20:35Z</dcterms:created>
  <dc:creator>番茄花园</dc:creator>
  <dc:description/>
  <cp:keywords/>
  <dc:language>en-US</dc:language>
  <cp:lastModifiedBy>User</cp:lastModifiedBy>
  <cp:lastPrinted>1899-12-30T00:00:00Z</cp:lastPrinted>
  <dcterms:modified xsi:type="dcterms:W3CDTF">2013-12-18T08:12:56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