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0E7-59D4-440D-AB70-A9E53193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6BA-3377-459A-B6A7-E3297BE7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265-039C-438D-A7F1-BA0A268A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ABA-FE9A-4C4F-A6BD-B0934C4F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337-446A-4E74-BCA2-7F308D20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889-57DA-4BC9-B6B5-7DC9B07E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CDA-F658-4D71-9977-59B9AB65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CDE-F001-44BB-89AA-5F9C361D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0C0-5823-4DB8-8F02-DD261151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24C-FDDD-406C-8909-EB1A6ECF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D3E-7910-4824-A0B0-50E84AE5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817-AA43-4CA2-BBE1-D119EE39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9068-89C4-472F-B78B-8FA446FB4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476280"/>
            <a:ext cx="60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教版三年级数学上册   第十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2496960"/>
            <a:ext cx="5256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认识几分之一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39080" y="6381720"/>
            <a:ext cx="210492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600" y="2565360"/>
            <a:ext cx="9077400" cy="4256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730600" y="414036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79360" y="2031840"/>
            <a:ext cx="1752480" cy="1752840"/>
            <a:chOff x="279360" y="2031840"/>
            <a:chExt cx="1752480" cy="1752840"/>
          </a:xfrm>
        </p:grpSpPr>
        <p:sp>
          <p:nvSpPr>
            <p:cNvPr id="189" name=""/>
            <p:cNvSpPr/>
            <p:nvPr/>
          </p:nvSpPr>
          <p:spPr>
            <a:xfrm>
              <a:off x="279360" y="2031840"/>
              <a:ext cx="1752480" cy="1752840"/>
            </a:xfrm>
            <a:prstGeom prst="rect">
              <a:avLst/>
            </a:pr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9360" y="325116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17440" y="2031840"/>
              <a:ext cx="0" cy="1752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17440" y="3251160"/>
              <a:ext cx="914400" cy="533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286000" y="2146320"/>
            <a:ext cx="1676160" cy="1676160"/>
            <a:chOff x="2286000" y="2146320"/>
            <a:chExt cx="1676160" cy="1676160"/>
          </a:xfrm>
        </p:grpSpPr>
        <p:sp>
          <p:nvSpPr>
            <p:cNvPr id="194" name=""/>
            <p:cNvSpPr/>
            <p:nvPr/>
          </p:nvSpPr>
          <p:spPr>
            <a:xfrm>
              <a:off x="2286000" y="214632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600" y="2413080"/>
              <a:ext cx="1143000" cy="1218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514240" y="2336760"/>
              <a:ext cx="114300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425680" y="428004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49840" y="42292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99200" y="42037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178160" y="2108160"/>
            <a:ext cx="2438640" cy="1600200"/>
            <a:chOff x="4178160" y="2108160"/>
            <a:chExt cx="2438640" cy="1600200"/>
          </a:xfrm>
        </p:grpSpPr>
        <p:sp>
          <p:nvSpPr>
            <p:cNvPr id="201" name=""/>
            <p:cNvSpPr/>
            <p:nvPr/>
          </p:nvSpPr>
          <p:spPr>
            <a:xfrm>
              <a:off x="4178160" y="2108160"/>
              <a:ext cx="2438640" cy="1600200"/>
            </a:xfrm>
            <a:prstGeom prst="rect">
              <a:avLst/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97760" y="210816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78360" y="210816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83360" y="210816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91120" y="2108160"/>
              <a:ext cx="1066680" cy="16002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46748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96160" y="2057400"/>
            <a:ext cx="1689120" cy="1676160"/>
            <a:chOff x="6896160" y="2057400"/>
            <a:chExt cx="1689120" cy="1676160"/>
          </a:xfrm>
        </p:grpSpPr>
        <p:sp>
          <p:nvSpPr>
            <p:cNvPr id="208" name=""/>
            <p:cNvSpPr/>
            <p:nvPr/>
          </p:nvSpPr>
          <p:spPr>
            <a:xfrm>
              <a:off x="6896160" y="2057400"/>
              <a:ext cx="1676520" cy="16761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08760" y="29080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61400" y="24382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8440" y="33400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57200" y="42926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28600" y="0"/>
            <a:ext cx="8229600" cy="1635480"/>
            <a:chOff x="228600" y="0"/>
            <a:chExt cx="8229600" cy="1635480"/>
          </a:xfrm>
        </p:grpSpPr>
        <p:sp>
          <p:nvSpPr>
            <p:cNvPr id="214" name=""/>
            <p:cNvSpPr/>
            <p:nvPr/>
          </p:nvSpPr>
          <p:spPr>
            <a:xfrm>
              <a:off x="228600" y="190440"/>
              <a:ext cx="8229600" cy="14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下面哪个图里的涂色部分是     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在（   ）里画“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√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5254920" y="0"/>
                  <a:ext cx="390240" cy="101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6" name=""/>
          <p:cNvGraphicFramePr/>
          <p:nvPr/>
        </p:nvGraphicFramePr>
        <p:xfrm>
          <a:off x="2557440" y="3025800"/>
          <a:ext cx="1066680" cy="7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7440" y="3025800"/>
                    <a:ext cx="10666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912000" y="2438280"/>
          <a:ext cx="162252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12000" y="2438280"/>
                    <a:ext cx="1622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90520" cy="12621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76720" y="2057400"/>
            <a:ext cx="2057400" cy="205740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057400"/>
            <a:ext cx="2057400" cy="205740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205740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05240" y="204480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1114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0"/>
            <a:ext cx="2133720" cy="642600"/>
          </a:xfrm>
          <a:prstGeom prst="rect">
            <a:avLst/>
          </a:prstGeom>
          <a:solidFill>
            <a:srgbClr val="6666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Edwardian Script ITC"/>
                <a:ea typeface="宋体-方正超大字符集"/>
              </a:rPr>
              <a:t>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2082960"/>
            <a:ext cx="2057400" cy="205740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31240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48440" y="205740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362640" y="2374920"/>
            <a:ext cx="1371600" cy="1523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11880" y="2400480"/>
            <a:ext cx="1447920" cy="1447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066680" y="685800"/>
            <a:ext cx="8077320" cy="1295280"/>
            <a:chOff x="1066680" y="685800"/>
            <a:chExt cx="8077320" cy="1295280"/>
          </a:xfrm>
        </p:grpSpPr>
        <p:sp>
          <p:nvSpPr>
            <p:cNvPr id="233" name=""/>
            <p:cNvSpPr/>
            <p:nvPr/>
          </p:nvSpPr>
          <p:spPr>
            <a:xfrm>
              <a:off x="1066680" y="6858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用同样大小的圆片纸，分别折一折，涂出它的     、     ，再比一比它们的大小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2451240" y="1079640"/>
                  <a:ext cx="492120" cy="90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612800" y="1092240"/>
                  <a:ext cx="4492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257480" y="4013280"/>
                <a:ext cx="5187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38480" y="4114800"/>
                <a:ext cx="5191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878520" y="4114800"/>
                <a:ext cx="47628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9" name=""/>
          <p:cNvGrpSpPr/>
          <p:nvPr/>
        </p:nvGrpSpPr>
        <p:grpSpPr>
          <a:xfrm>
            <a:off x="3352680" y="5257800"/>
            <a:ext cx="1752480" cy="1390680"/>
            <a:chOff x="3352680" y="5257800"/>
            <a:chExt cx="1752480" cy="139068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3352680" y="5308560"/>
                  <a:ext cx="51912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4628880" y="5257800"/>
                  <a:ext cx="47628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"/>
            <p:cNvSpPr/>
            <p:nvPr/>
          </p:nvSpPr>
          <p:spPr>
            <a:xfrm>
              <a:off x="3871800" y="577224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62120" y="5257800"/>
            <a:ext cx="1774800" cy="1364760"/>
            <a:chOff x="762120" y="5257800"/>
            <a:chExt cx="1774800" cy="1364760"/>
          </a:xfrm>
        </p:grpSpPr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762120" y="5257800"/>
                  <a:ext cx="519120" cy="13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017800" y="5283000"/>
                  <a:ext cx="519120" cy="13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>
              <a:off x="1281240" y="5721120"/>
              <a:ext cx="685800" cy="6854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80240" y="5302080"/>
            <a:ext cx="1752480" cy="1378080"/>
            <a:chOff x="5880240" y="5302080"/>
            <a:chExt cx="1752480" cy="1378080"/>
          </a:xfrm>
        </p:grpSpPr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5880240" y="5340240"/>
                  <a:ext cx="51912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7156440" y="5302080"/>
                  <a:ext cx="47628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0" name=""/>
            <p:cNvSpPr/>
            <p:nvPr/>
          </p:nvSpPr>
          <p:spPr>
            <a:xfrm>
              <a:off x="6399360" y="575280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411200" y="5676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14720" y="572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29320" y="5702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33520" y="2044800"/>
          <a:ext cx="990360" cy="20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044800"/>
                    <a:ext cx="9903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3289320" y="2082960"/>
          <a:ext cx="990720" cy="99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89320" y="2082960"/>
                    <a:ext cx="990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375240" y="3187800"/>
          <a:ext cx="685800" cy="94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75240" y="3187800"/>
                    <a:ext cx="685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729080" cy="1905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438280" y="533520"/>
            <a:ext cx="5257800" cy="761760"/>
          </a:xfrm>
          <a:prstGeom prst="wedgeEllipseCallout">
            <a:avLst>
              <a:gd name="adj1" fmla="val -58726"/>
              <a:gd name="adj2" fmla="val 70000"/>
            </a:avLst>
          </a:prstGeom>
          <a:solidFill>
            <a:srgbClr val="cc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35160" y="6094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填一填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2438280"/>
            <a:ext cx="7467480" cy="685800"/>
          </a:xfrm>
          <a:prstGeom prst="rect">
            <a:avLst/>
          </a:prstGeom>
          <a:solidFill>
            <a:srgbClr val="ff99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4876920"/>
            <a:ext cx="74674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3657600"/>
            <a:ext cx="74674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65760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24560" y="365760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4876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24560" y="4876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670200"/>
            <a:ext cx="2425680" cy="660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28880" y="3733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4876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4876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876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8400" y="4889520"/>
            <a:ext cx="1193760" cy="673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1680" y="4952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40360" y="24764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612800" y="3479760"/>
                <a:ext cx="3589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130400" y="4749840"/>
                <a:ext cx="392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omb dir="vert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1728720" cy="1904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55680" y="838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你能折一折，表示出一张纸的几分之一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7080" y="127080"/>
            <a:ext cx="1981080" cy="581400"/>
          </a:xfrm>
          <a:prstGeom prst="rect">
            <a:avLst/>
          </a:prstGeom>
          <a:solidFill>
            <a:srgbClr val="99ff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动手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66760" y="1511280"/>
            <a:ext cx="8666280" cy="3276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209680" y="5486400"/>
            <a:ext cx="5257800" cy="762120"/>
          </a:xfrm>
          <a:prstGeom prst="wedgeEllipseCallout">
            <a:avLst>
              <a:gd name="adj1" fmla="val -57037"/>
              <a:gd name="adj2" fmla="val -26666"/>
            </a:avLst>
          </a:prstGeom>
          <a:solidFill>
            <a:srgbClr val="ffc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40160" y="553716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你折的跟同学进行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602080"/>
            <a:ext cx="8915400" cy="4255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8600" y="228600"/>
            <a:ext cx="2408400" cy="642600"/>
          </a:xfrm>
          <a:prstGeom prst="rect">
            <a:avLst/>
          </a:prstGeom>
          <a:solidFill>
            <a:srgbClr val="ffcc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Edwardian Script ITC"/>
                <a:ea typeface="宋体-方正超大字符集"/>
              </a:rPr>
              <a:t>精当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9072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先按照分数涂上颜色，再比较分数的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553080" y="1828800"/>
            <a:ext cx="1752480" cy="1752480"/>
            <a:chOff x="6553080" y="1828800"/>
            <a:chExt cx="1752480" cy="1752480"/>
          </a:xfrm>
        </p:grpSpPr>
        <p:sp>
          <p:nvSpPr>
            <p:cNvPr id="290" name=""/>
            <p:cNvSpPr/>
            <p:nvPr/>
          </p:nvSpPr>
          <p:spPr>
            <a:xfrm>
              <a:off x="6553080" y="1828800"/>
              <a:ext cx="1752480" cy="1752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53080" y="2705040"/>
              <a:ext cx="1752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3960" y="1968480"/>
              <a:ext cx="990720" cy="15238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933960" y="1968480"/>
              <a:ext cx="914400" cy="1447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572000" y="1905120"/>
            <a:ext cx="1752480" cy="1764720"/>
            <a:chOff x="4572000" y="1905120"/>
            <a:chExt cx="1752480" cy="1764720"/>
          </a:xfrm>
        </p:grpSpPr>
        <p:sp>
          <p:nvSpPr>
            <p:cNvPr id="295" name=""/>
            <p:cNvSpPr/>
            <p:nvPr/>
          </p:nvSpPr>
          <p:spPr>
            <a:xfrm>
              <a:off x="4572000" y="1917720"/>
              <a:ext cx="1752480" cy="175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10080" y="1905120"/>
              <a:ext cx="76320" cy="914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7960" y="2514600"/>
              <a:ext cx="838440" cy="304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486400" y="2514600"/>
              <a:ext cx="761760" cy="304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952880" y="2819160"/>
              <a:ext cx="533520" cy="685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86400" y="2819160"/>
              <a:ext cx="533160" cy="609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91960" y="2057400"/>
            <a:ext cx="1841760" cy="1231920"/>
            <a:chOff x="291960" y="2057400"/>
            <a:chExt cx="1841760" cy="1231920"/>
          </a:xfrm>
        </p:grpSpPr>
        <p:sp>
          <p:nvSpPr>
            <p:cNvPr id="302" name=""/>
            <p:cNvSpPr/>
            <p:nvPr/>
          </p:nvSpPr>
          <p:spPr>
            <a:xfrm>
              <a:off x="291960" y="2070000"/>
              <a:ext cx="182880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4920" y="266688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06360" y="2057400"/>
              <a:ext cx="0" cy="12193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91960" y="2666880"/>
            <a:ext cx="914400" cy="609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38280" y="2057400"/>
            <a:ext cx="1841760" cy="1244160"/>
            <a:chOff x="2438280" y="2057400"/>
            <a:chExt cx="1841760" cy="1244160"/>
          </a:xfrm>
        </p:grpSpPr>
        <p:sp>
          <p:nvSpPr>
            <p:cNvPr id="307" name=""/>
            <p:cNvSpPr/>
            <p:nvPr/>
          </p:nvSpPr>
          <p:spPr>
            <a:xfrm>
              <a:off x="2451240" y="264168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438280" y="2057400"/>
              <a:ext cx="1828800" cy="1244160"/>
              <a:chOff x="2438280" y="2057400"/>
              <a:chExt cx="1828800" cy="1244160"/>
            </a:xfrm>
          </p:grpSpPr>
          <p:sp>
            <p:nvSpPr>
              <p:cNvPr id="309" name=""/>
              <p:cNvSpPr/>
              <p:nvPr/>
            </p:nvSpPr>
            <p:spPr>
              <a:xfrm>
                <a:off x="2438280" y="2057400"/>
                <a:ext cx="1828800" cy="1218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95480" y="2070000"/>
                <a:ext cx="0" cy="121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52680" y="2070000"/>
                <a:ext cx="0" cy="121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22840" y="208260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"/>
          <p:cNvSpPr/>
          <p:nvPr/>
        </p:nvSpPr>
        <p:spPr>
          <a:xfrm>
            <a:off x="2438280" y="2654280"/>
            <a:ext cx="457200" cy="609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295280" y="3530520"/>
            <a:ext cx="1752480" cy="1365480"/>
            <a:chOff x="1295280" y="3530520"/>
            <a:chExt cx="1752480" cy="1365480"/>
          </a:xfrm>
        </p:grpSpPr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295280" y="3530520"/>
                  <a:ext cx="51912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2571480" y="3556080"/>
                  <a:ext cx="47628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1814400" y="399420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48320" y="3632040"/>
            <a:ext cx="1754280" cy="1365480"/>
            <a:chOff x="5548320" y="3632040"/>
            <a:chExt cx="1754280" cy="1365480"/>
          </a:xfrm>
        </p:grpSpPr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5548320" y="3632040"/>
                  <a:ext cx="47628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783480" y="3657600"/>
                  <a:ext cx="51912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>
              <a:off x="6046920" y="409572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32120" y="3962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003640" y="2832120"/>
          <a:ext cx="99072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2832120"/>
                    <a:ext cx="990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959520" y="2732040"/>
          <a:ext cx="914400" cy="82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59520" y="2732040"/>
                    <a:ext cx="9144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6173640" y="40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1979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9640" y="5300640"/>
            <a:ext cx="21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13413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3413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-31680" y="550800"/>
            <a:ext cx="9175680" cy="59342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3456000" cy="3024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572000" y="1341360"/>
            <a:ext cx="3236760" cy="13874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4643280" y="2900520"/>
            <a:ext cx="3095640" cy="1441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572000" y="1219320"/>
            <a:ext cx="0" cy="32414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2819520"/>
            <a:ext cx="6767640" cy="14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4581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科学天地》大约占黑板报版面的几分之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50706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艺术园地》大约占黑板报版面的几分之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16000" y="5589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哪部分大一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340000" cy="638280"/>
          </a:xfrm>
          <a:prstGeom prst="rect">
            <a:avLst/>
          </a:prstGeom>
          <a:solidFill>
            <a:srgbClr val="99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生活中的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8001000" y="4203720"/>
                <a:ext cx="439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7988400" y="5003640"/>
                <a:ext cx="4395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4" name=""/>
          <p:cNvGrpSpPr/>
          <p:nvPr/>
        </p:nvGrpSpPr>
        <p:grpSpPr>
          <a:xfrm>
            <a:off x="3683160" y="5378400"/>
            <a:ext cx="1774800" cy="1365480"/>
            <a:chOff x="3683160" y="5378400"/>
            <a:chExt cx="1774800" cy="1365480"/>
          </a:xfrm>
        </p:grpSpPr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3683160" y="5378400"/>
                  <a:ext cx="51912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4938840" y="5403960"/>
                  <a:ext cx="519120" cy="13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4202280" y="58420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307040" y="5791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30400" y="155736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谈谈今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的收获吧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920" y="96840"/>
            <a:ext cx="22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45820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9760" y="7398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周末，小明和小兰去野餐，我们来看看这两位同学带了哪些食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4514760"/>
            <a:ext cx="8170920" cy="1266840"/>
            <a:chOff x="0" y="4514760"/>
            <a:chExt cx="8170920" cy="12668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0" y="4514760"/>
              <a:ext cx="1190520" cy="126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515960" y="4724280"/>
              <a:ext cx="6654960" cy="528480"/>
              <a:chOff x="1515960" y="4724280"/>
              <a:chExt cx="6654960" cy="528480"/>
            </a:xfrm>
          </p:grpSpPr>
          <p:sp>
            <p:nvSpPr>
              <p:cNvPr id="52" name=""/>
              <p:cNvSpPr/>
              <p:nvPr/>
            </p:nvSpPr>
            <p:spPr>
              <a:xfrm rot="10800000">
                <a:off x="1539360" y="4723920"/>
                <a:ext cx="6402600" cy="528480"/>
              </a:xfrm>
              <a:prstGeom prst="wedgeRoundRectCallout">
                <a:avLst>
                  <a:gd name="adj1" fmla="val 58773"/>
                  <a:gd name="adj2" fmla="val -50902"/>
                  <a:gd name="adj3" fmla="val 16667"/>
                </a:avLst>
              </a:prstGeom>
              <a:solidFill>
                <a:srgbClr val="cc99ff"/>
              </a:solidFill>
              <a:ln w="22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15960" y="4749840"/>
                <a:ext cx="665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66"/>
                    </a:solidFill>
                    <a:latin typeface="Arial"/>
                  </a:rPr>
                  <a:t>把每种食品都平均分成</a:t>
                </a:r>
                <a:r>
                  <a:rPr b="1" lang="zh-CN" sz="2400" spc="-1" strike="noStrike">
                    <a:solidFill>
                      <a:srgbClr val="660066"/>
                    </a:solidFill>
                    <a:latin typeface="Arial"/>
                  </a:rPr>
                  <a:t>2</a:t>
                </a:r>
                <a:r>
                  <a:rPr b="1" lang="zh-CN" sz="2400" spc="-1" strike="noStrike">
                    <a:solidFill>
                      <a:srgbClr val="660066"/>
                    </a:solidFill>
                    <a:latin typeface="Arial"/>
                  </a:rPr>
                  <a:t>份，每人各分得多少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371600"/>
            <a:ext cx="2743200" cy="23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1371600"/>
            <a:ext cx="2743200" cy="23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2600" y="1370160"/>
            <a:ext cx="2743200" cy="23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5120" y="1447920"/>
            <a:ext cx="2133360" cy="1195200"/>
          </a:xfrm>
          <a:prstGeom prst="wedgeEllipseCallout">
            <a:avLst>
              <a:gd name="adj1" fmla="val -43750"/>
              <a:gd name="adj2" fmla="val 67796"/>
            </a:avLst>
          </a:prstGeom>
          <a:solidFill>
            <a:srgbClr val="cc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447920"/>
            <a:ext cx="2286000" cy="1143000"/>
          </a:xfrm>
          <a:prstGeom prst="wedgeEllipseCallout">
            <a:avLst>
              <a:gd name="adj1" fmla="val 55416"/>
              <a:gd name="adj2" fmla="val 64722"/>
            </a:avLst>
          </a:prstGeom>
          <a:solidFill>
            <a:srgbClr val="ffffcc"/>
          </a:solidFill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1447920"/>
            <a:ext cx="2514600" cy="1066680"/>
          </a:xfrm>
          <a:prstGeom prst="wedgeEllipseCallout">
            <a:avLst>
              <a:gd name="adj1" fmla="val 45518"/>
              <a:gd name="adj2" fmla="val 62648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8880" y="16318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苹果平均分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份，每人分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60600" y="164304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瓶矿泉水平均分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份，每人分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158256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蛋糕平均分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份，每人分得半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6720" y="2906640"/>
            <a:ext cx="1105200" cy="790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56120" y="2874960"/>
            <a:ext cx="87624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642080" y="279864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935760" y="4370400"/>
            <a:ext cx="1143000" cy="1752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81080" y="4114800"/>
            <a:ext cx="4876920" cy="838080"/>
          </a:xfrm>
          <a:prstGeom prst="wedgeEllipseCallout">
            <a:avLst>
              <a:gd name="adj1" fmla="val 49347"/>
              <a:gd name="adj2" fmla="val 46967"/>
            </a:avLst>
          </a:prstGeom>
          <a:solidFill>
            <a:srgbClr val="ffff9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42274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个也就是二分之一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55760" y="15667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认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915840"/>
                <a:ext cx="905040" cy="233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76520" y="577800"/>
            <a:ext cx="1625760" cy="295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199040" y="577800"/>
            <a:ext cx="1928880" cy="29275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685800" y="3733920"/>
            <a:ext cx="7975440" cy="1631520"/>
            <a:chOff x="685800" y="3733920"/>
            <a:chExt cx="7975440" cy="1631520"/>
          </a:xfrm>
        </p:grpSpPr>
        <p:sp>
          <p:nvSpPr>
            <p:cNvPr id="74" name=""/>
            <p:cNvSpPr/>
            <p:nvPr/>
          </p:nvSpPr>
          <p:spPr>
            <a:xfrm>
              <a:off x="685800" y="3733920"/>
              <a:ext cx="7975440" cy="132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把一个蛋糕平均分成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份，每份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它的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二分之一，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作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4538520" y="4222800"/>
                  <a:ext cx="654120" cy="114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578640" y="917640"/>
                <a:ext cx="64908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51080" y="852480"/>
                <a:ext cx="6048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6 -0.00394 L -0.21094 -0.00394 E">
                                      <p:cBhvr>
                                        <p:cTn id="15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371 L 0.23716 -0.0044 E">
                                      <p:cBhvr>
                                        <p:cTn id="15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304920" y="3835440"/>
            <a:ext cx="4647960" cy="2362320"/>
            <a:chOff x="304920" y="3835440"/>
            <a:chExt cx="4647960" cy="236232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304920" y="3911760"/>
              <a:ext cx="18255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209680" y="3835440"/>
              <a:ext cx="2133720" cy="1143000"/>
            </a:xfrm>
            <a:prstGeom prst="wedgeEllipseCallout">
              <a:avLst>
                <a:gd name="adj1" fmla="val -40402"/>
                <a:gd name="adj2" fmla="val 64722"/>
              </a:avLst>
            </a:prstGeom>
            <a:solidFill>
              <a:srgbClr val="ffcc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2482920" y="3905280"/>
                  <a:ext cx="51912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2193840" y="4167360"/>
              <a:ext cx="275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是分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786120" y="96984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7760" y="203184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56080" y="990720"/>
            <a:ext cx="195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__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13200" y="1217520"/>
            <a:ext cx="16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1752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209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7240" y="12621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11680" y="17780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数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08800" y="2263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830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3000" y="36828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1160" y="144792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80880"/>
            <a:ext cx="195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__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7080" y="6602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子表示其中的一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58920" y="1231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数线表示平均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6320" y="1816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分母表示分的总份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" y="3048120"/>
            <a:ext cx="431640" cy="1004760"/>
            <a:chOff x="685800" y="3048120"/>
            <a:chExt cx="431640" cy="1004760"/>
          </a:xfrm>
        </p:grpSpPr>
        <p:sp>
          <p:nvSpPr>
            <p:cNvPr id="100" name=""/>
            <p:cNvSpPr/>
            <p:nvPr/>
          </p:nvSpPr>
          <p:spPr>
            <a:xfrm>
              <a:off x="709920" y="3532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9920" y="3048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" y="35323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422360" y="3048120"/>
            <a:ext cx="431640" cy="1004760"/>
            <a:chOff x="1422360" y="3048120"/>
            <a:chExt cx="431640" cy="1004760"/>
          </a:xfrm>
        </p:grpSpPr>
        <p:sp>
          <p:nvSpPr>
            <p:cNvPr id="104" name=""/>
            <p:cNvSpPr/>
            <p:nvPr/>
          </p:nvSpPr>
          <p:spPr>
            <a:xfrm>
              <a:off x="1446480" y="3532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6480" y="3048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22360" y="35323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58920" y="3048120"/>
            <a:ext cx="431640" cy="1004760"/>
            <a:chOff x="2158920" y="3048120"/>
            <a:chExt cx="431640" cy="1004760"/>
          </a:xfrm>
        </p:grpSpPr>
        <p:sp>
          <p:nvSpPr>
            <p:cNvPr id="108" name=""/>
            <p:cNvSpPr/>
            <p:nvPr/>
          </p:nvSpPr>
          <p:spPr>
            <a:xfrm>
              <a:off x="2183040" y="3532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83040" y="3048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58920" y="35323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19520" y="3048120"/>
            <a:ext cx="431640" cy="1004760"/>
            <a:chOff x="2819520" y="3048120"/>
            <a:chExt cx="431640" cy="1004760"/>
          </a:xfrm>
        </p:grpSpPr>
        <p:sp>
          <p:nvSpPr>
            <p:cNvPr id="112" name=""/>
            <p:cNvSpPr/>
            <p:nvPr/>
          </p:nvSpPr>
          <p:spPr>
            <a:xfrm>
              <a:off x="2843640" y="3532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43640" y="3048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520" y="35323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30520" y="3048120"/>
            <a:ext cx="431640" cy="1004760"/>
            <a:chOff x="3530520" y="3048120"/>
            <a:chExt cx="431640" cy="1004760"/>
          </a:xfrm>
        </p:grpSpPr>
        <p:sp>
          <p:nvSpPr>
            <p:cNvPr id="116" name=""/>
            <p:cNvSpPr/>
            <p:nvPr/>
          </p:nvSpPr>
          <p:spPr>
            <a:xfrm>
              <a:off x="3554640" y="3532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54640" y="3048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30520" y="35323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229280" y="3048120"/>
            <a:ext cx="431640" cy="1004760"/>
            <a:chOff x="4229280" y="3048120"/>
            <a:chExt cx="431640" cy="1004760"/>
          </a:xfrm>
        </p:grpSpPr>
        <p:sp>
          <p:nvSpPr>
            <p:cNvPr id="120" name=""/>
            <p:cNvSpPr/>
            <p:nvPr/>
          </p:nvSpPr>
          <p:spPr>
            <a:xfrm>
              <a:off x="4253400" y="3532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53400" y="3048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29280" y="35323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788000" y="31878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25080" y="31370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是分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5680" y="411480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把一个物体或一个图形，平均分成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份，其中的一份就是它的几分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6600" y="2565360"/>
            <a:ext cx="8915400" cy="42562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76320" y="76320"/>
            <a:ext cx="3306600" cy="1066680"/>
            <a:chOff x="76320" y="76320"/>
            <a:chExt cx="3306600" cy="10666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76320" y="76320"/>
              <a:ext cx="2362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554120" y="343080"/>
              <a:ext cx="1828800" cy="642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3300"/>
                  </a:solidFill>
                  <a:latin typeface="Edwardian Script ITC"/>
                  <a:ea typeface="宋体-方正超大字符集"/>
                </a:rPr>
                <a:t>试一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28600" y="2514600"/>
            <a:ext cx="2514600" cy="15238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514600"/>
            <a:ext cx="2514600" cy="15238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2080" y="2540160"/>
            <a:ext cx="2514600" cy="15238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276720"/>
            <a:ext cx="251460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251460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2577960"/>
            <a:ext cx="2438640" cy="1447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502000"/>
            <a:ext cx="251460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0040" y="2514600"/>
            <a:ext cx="129528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54680" y="2603520"/>
            <a:ext cx="2438280" cy="144792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4343400"/>
            <a:ext cx="8763120" cy="1522440"/>
            <a:chOff x="228600" y="4343400"/>
            <a:chExt cx="8763120" cy="1522440"/>
          </a:xfrm>
        </p:grpSpPr>
        <p:sp>
          <p:nvSpPr>
            <p:cNvPr id="140" name=""/>
            <p:cNvSpPr/>
            <p:nvPr/>
          </p:nvSpPr>
          <p:spPr>
            <a:xfrm>
              <a:off x="228600" y="4343400"/>
              <a:ext cx="87631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这个图形被平均分成了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份，涂色部分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这样的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份，涂色部分可以用     表示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5499000" y="4851360"/>
                  <a:ext cx="39204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2" name=""/>
          <p:cNvGrpSpPr/>
          <p:nvPr/>
        </p:nvGrpSpPr>
        <p:grpSpPr>
          <a:xfrm>
            <a:off x="304920" y="947880"/>
            <a:ext cx="8839080" cy="774720"/>
            <a:chOff x="304920" y="947880"/>
            <a:chExt cx="8839080" cy="774720"/>
          </a:xfrm>
        </p:grpSpPr>
        <p:sp>
          <p:nvSpPr>
            <p:cNvPr id="143" name=""/>
            <p:cNvSpPr/>
            <p:nvPr/>
          </p:nvSpPr>
          <p:spPr>
            <a:xfrm>
              <a:off x="304920" y="1066680"/>
              <a:ext cx="883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拿一张长方形纸，先折一折，把它的   涂上颜色，再交流一下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7588080" y="947880"/>
                  <a:ext cx="29880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blinds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6600" y="2565360"/>
            <a:ext cx="8915400" cy="4256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280" y="838080"/>
            <a:ext cx="90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你能用分数表示下面每个图里的涂色部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394160" y="1905120"/>
            <a:ext cx="2070000" cy="2867400"/>
            <a:chOff x="4394160" y="1905120"/>
            <a:chExt cx="2070000" cy="2867400"/>
          </a:xfrm>
        </p:grpSpPr>
        <p:sp>
          <p:nvSpPr>
            <p:cNvPr id="148" name=""/>
            <p:cNvSpPr/>
            <p:nvPr/>
          </p:nvSpPr>
          <p:spPr>
            <a:xfrm>
              <a:off x="448308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394160" y="1905120"/>
              <a:ext cx="1612800" cy="1676160"/>
              <a:chOff x="4394160" y="1905120"/>
              <a:chExt cx="1612800" cy="1676160"/>
            </a:xfrm>
          </p:grpSpPr>
          <p:sp>
            <p:nvSpPr>
              <p:cNvPr id="150" name=""/>
              <p:cNvSpPr/>
              <p:nvPr/>
            </p:nvSpPr>
            <p:spPr>
              <a:xfrm>
                <a:off x="4419720" y="1905120"/>
                <a:ext cx="1574640" cy="1676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94160" y="245124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06760" y="300996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27680" y="1905120"/>
                <a:ext cx="0" cy="167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60840" y="1905120"/>
                <a:ext cx="0" cy="167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27680" y="2463840"/>
                <a:ext cx="533160" cy="5335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6286680" y="2187720"/>
            <a:ext cx="2323800" cy="2576880"/>
            <a:chOff x="6286680" y="2187720"/>
            <a:chExt cx="2323800" cy="2576880"/>
          </a:xfrm>
        </p:grpSpPr>
        <p:sp>
          <p:nvSpPr>
            <p:cNvPr id="157" name=""/>
            <p:cNvSpPr/>
            <p:nvPr/>
          </p:nvSpPr>
          <p:spPr>
            <a:xfrm>
              <a:off x="6629400" y="41832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（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286680" y="2187720"/>
              <a:ext cx="2095200" cy="1143000"/>
              <a:chOff x="6286680" y="2187720"/>
              <a:chExt cx="2095200" cy="1143000"/>
            </a:xfrm>
          </p:grpSpPr>
          <p:sp>
            <p:nvSpPr>
              <p:cNvPr id="159" name=""/>
              <p:cNvSpPr/>
              <p:nvPr/>
            </p:nvSpPr>
            <p:spPr>
              <a:xfrm>
                <a:off x="6286680" y="2187720"/>
                <a:ext cx="209520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07240" y="2187720"/>
                <a:ext cx="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40760" y="2187720"/>
                <a:ext cx="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861320" y="2187720"/>
                <a:ext cx="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11880" y="275904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86680" y="2784600"/>
                <a:ext cx="533160" cy="53316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203960" y="3898800"/>
                <a:ext cx="3589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105520" y="3924360"/>
                <a:ext cx="360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16240" y="3911760"/>
                <a:ext cx="36036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90720" y="3936960"/>
                <a:ext cx="3902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291960" y="1828800"/>
            <a:ext cx="2070360" cy="2943720"/>
            <a:chOff x="291960" y="1828800"/>
            <a:chExt cx="2070360" cy="2943720"/>
          </a:xfrm>
        </p:grpSpPr>
        <p:grpSp>
          <p:nvGrpSpPr>
            <p:cNvPr id="170" name=""/>
            <p:cNvGrpSpPr/>
            <p:nvPr/>
          </p:nvGrpSpPr>
          <p:grpSpPr>
            <a:xfrm>
              <a:off x="291960" y="1828800"/>
              <a:ext cx="1841760" cy="1828800"/>
              <a:chOff x="291960" y="1828800"/>
              <a:chExt cx="1841760" cy="1828800"/>
            </a:xfrm>
          </p:grpSpPr>
          <p:sp>
            <p:nvSpPr>
              <p:cNvPr id="171" name=""/>
              <p:cNvSpPr/>
              <p:nvPr/>
            </p:nvSpPr>
            <p:spPr>
              <a:xfrm>
                <a:off x="291960" y="1828800"/>
                <a:ext cx="1841760" cy="1828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4920" y="2743200"/>
                <a:ext cx="1828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19320" y="1828800"/>
                <a:ext cx="0" cy="1828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0120" y="1844640"/>
                <a:ext cx="863640" cy="89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380880" y="41911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14600" y="1905120"/>
            <a:ext cx="2057400" cy="2867400"/>
            <a:chOff x="2514600" y="1905120"/>
            <a:chExt cx="2057400" cy="2867400"/>
          </a:xfrm>
        </p:grpSpPr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2946240" y="2819520"/>
              <a:ext cx="990720" cy="838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"/>
            <p:cNvGrpSpPr/>
            <p:nvPr/>
          </p:nvGrpSpPr>
          <p:grpSpPr>
            <a:xfrm>
              <a:off x="2514600" y="1905120"/>
              <a:ext cx="1752480" cy="1764720"/>
              <a:chOff x="2514600" y="1905120"/>
              <a:chExt cx="1752480" cy="1764720"/>
            </a:xfrm>
          </p:grpSpPr>
          <p:sp>
            <p:nvSpPr>
              <p:cNvPr id="179" name=""/>
              <p:cNvSpPr/>
              <p:nvPr/>
            </p:nvSpPr>
            <p:spPr>
              <a:xfrm>
                <a:off x="2514600" y="1917720"/>
                <a:ext cx="1752480" cy="175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1905120"/>
                <a:ext cx="76320" cy="914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90560" y="2514600"/>
                <a:ext cx="838440" cy="304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3429000" y="2514600"/>
                <a:ext cx="761760" cy="304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895480" y="2819160"/>
                <a:ext cx="533520" cy="685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29000" y="2819160"/>
                <a:ext cx="533160" cy="60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5909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苏教版三年级数学上册</dc:creator>
  <dc:description/>
  <dc:language>en-US</dc:language>
  <cp:lastModifiedBy>雨林木风</cp:lastModifiedBy>
  <dcterms:modified xsi:type="dcterms:W3CDTF">2013-12-13T05:29:17Z</dcterms:modified>
  <cp:revision>321</cp:revision>
  <dc:subject/>
  <dc:title>第十单元 第1课时 认识几分之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