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image" Target="../media/image23.png"/><Relationship Id="rId39" Type="http://schemas.openxmlformats.org/officeDocument/2006/relationships/image" Target="../media/image23.png"/><Relationship Id="rId40" Type="http://schemas.openxmlformats.org/officeDocument/2006/relationships/image" Target="../media/image23.png"/><Relationship Id="rId41" Type="http://schemas.openxmlformats.org/officeDocument/2006/relationships/image" Target="../media/image24.png"/><Relationship Id="rId42" Type="http://schemas.openxmlformats.org/officeDocument/2006/relationships/image" Target="../media/image24.png"/><Relationship Id="rId43" Type="http://schemas.openxmlformats.org/officeDocument/2006/relationships/image" Target="../media/image24.png"/><Relationship Id="rId44" Type="http://schemas.openxmlformats.org/officeDocument/2006/relationships/image" Target="../media/image24.png"/><Relationship Id="rId45" Type="http://schemas.openxmlformats.org/officeDocument/2006/relationships/image" Target="../media/image24.png"/><Relationship Id="rId46" Type="http://schemas.openxmlformats.org/officeDocument/2006/relationships/image" Target="../media/image24.png"/><Relationship Id="rId47" Type="http://schemas.openxmlformats.org/officeDocument/2006/relationships/image" Target="../media/image24.png"/><Relationship Id="rId48" Type="http://schemas.openxmlformats.org/officeDocument/2006/relationships/image" Target="../media/image24.png"/><Relationship Id="rId49" Type="http://schemas.openxmlformats.org/officeDocument/2006/relationships/image" Target="../media/image24.png"/><Relationship Id="rId50" Type="http://schemas.openxmlformats.org/officeDocument/2006/relationships/image" Target="../media/image24.png"/><Relationship Id="rId51" Type="http://schemas.openxmlformats.org/officeDocument/2006/relationships/image" Target="../media/image25.png"/><Relationship Id="rId5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31.png"/><Relationship Id="rId13" Type="http://schemas.openxmlformats.org/officeDocument/2006/relationships/image" Target="../media/image30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1.png"/><Relationship Id="rId20" Type="http://schemas.openxmlformats.org/officeDocument/2006/relationships/image" Target="../media/image29.png"/><Relationship Id="rId21" Type="http://schemas.openxmlformats.org/officeDocument/2006/relationships/image" Target="../media/image30.png"/><Relationship Id="rId22" Type="http://schemas.openxmlformats.org/officeDocument/2006/relationships/image" Target="../media/image30.png"/><Relationship Id="rId23" Type="http://schemas.openxmlformats.org/officeDocument/2006/relationships/image" Target="../media/image27.png"/><Relationship Id="rId24" Type="http://schemas.openxmlformats.org/officeDocument/2006/relationships/image" Target="../media/image27.png"/><Relationship Id="rId25" Type="http://schemas.openxmlformats.org/officeDocument/2006/relationships/image" Target="../media/image31.png"/><Relationship Id="rId26" Type="http://schemas.openxmlformats.org/officeDocument/2006/relationships/image" Target="../media/image30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1.png"/><Relationship Id="rId33" Type="http://schemas.openxmlformats.org/officeDocument/2006/relationships/image" Target="../media/image29.png"/><Relationship Id="rId34" Type="http://schemas.openxmlformats.org/officeDocument/2006/relationships/image" Target="../media/image30.png"/><Relationship Id="rId35" Type="http://schemas.openxmlformats.org/officeDocument/2006/relationships/image" Target="../media/image30.png"/><Relationship Id="rId36" Type="http://schemas.openxmlformats.org/officeDocument/2006/relationships/image" Target="../media/image27.png"/><Relationship Id="rId37" Type="http://schemas.openxmlformats.org/officeDocument/2006/relationships/image" Target="../media/image27.png"/><Relationship Id="rId38" Type="http://schemas.openxmlformats.org/officeDocument/2006/relationships/image" Target="../media/image31.png"/><Relationship Id="rId39" Type="http://schemas.openxmlformats.org/officeDocument/2006/relationships/image" Target="../media/image30.png"/><Relationship Id="rId40" Type="http://schemas.openxmlformats.org/officeDocument/2006/relationships/image" Target="../media/image27.png"/><Relationship Id="rId41" Type="http://schemas.openxmlformats.org/officeDocument/2006/relationships/image" Target="../media/image28.png"/><Relationship Id="rId42" Type="http://schemas.openxmlformats.org/officeDocument/2006/relationships/image" Target="../media/image29.png"/><Relationship Id="rId43" Type="http://schemas.openxmlformats.org/officeDocument/2006/relationships/image" Target="../media/image30.png"/><Relationship Id="rId44" Type="http://schemas.openxmlformats.org/officeDocument/2006/relationships/image" Target="../media/image31.png"/><Relationship Id="rId45" Type="http://schemas.openxmlformats.org/officeDocument/2006/relationships/image" Target="../media/image31.png"/><Relationship Id="rId46" Type="http://schemas.openxmlformats.org/officeDocument/2006/relationships/image" Target="../media/image29.png"/><Relationship Id="rId47" Type="http://schemas.openxmlformats.org/officeDocument/2006/relationships/image" Target="../media/image30.png"/><Relationship Id="rId48" Type="http://schemas.openxmlformats.org/officeDocument/2006/relationships/image" Target="../media/image30.png"/><Relationship Id="rId49" Type="http://schemas.openxmlformats.org/officeDocument/2006/relationships/image" Target="../media/image27.png"/><Relationship Id="rId50" Type="http://schemas.openxmlformats.org/officeDocument/2006/relationships/image" Target="../media/image27.png"/><Relationship Id="rId51" Type="http://schemas.openxmlformats.org/officeDocument/2006/relationships/image" Target="../media/image31.png"/><Relationship Id="rId52" Type="http://schemas.openxmlformats.org/officeDocument/2006/relationships/image" Target="../media/image30.png"/><Relationship Id="rId53" Type="http://schemas.openxmlformats.org/officeDocument/2006/relationships/image" Target="../media/image27.png"/><Relationship Id="rId54" Type="http://schemas.openxmlformats.org/officeDocument/2006/relationships/image" Target="../media/image28.png"/><Relationship Id="rId55" Type="http://schemas.openxmlformats.org/officeDocument/2006/relationships/image" Target="../media/image29.png"/><Relationship Id="rId56" Type="http://schemas.openxmlformats.org/officeDocument/2006/relationships/image" Target="../media/image30.png"/><Relationship Id="rId57" Type="http://schemas.openxmlformats.org/officeDocument/2006/relationships/image" Target="../media/image31.png"/><Relationship Id="rId58" Type="http://schemas.openxmlformats.org/officeDocument/2006/relationships/image" Target="../media/image31.png"/><Relationship Id="rId59" Type="http://schemas.openxmlformats.org/officeDocument/2006/relationships/image" Target="../media/image29.png"/><Relationship Id="rId60" Type="http://schemas.openxmlformats.org/officeDocument/2006/relationships/image" Target="../media/image30.png"/><Relationship Id="rId61" Type="http://schemas.openxmlformats.org/officeDocument/2006/relationships/image" Target="../media/image30.png"/><Relationship Id="rId62" Type="http://schemas.openxmlformats.org/officeDocument/2006/relationships/image" Target="../media/image27.png"/><Relationship Id="rId63" Type="http://schemas.openxmlformats.org/officeDocument/2006/relationships/image" Target="../media/image27.png"/><Relationship Id="rId64" Type="http://schemas.openxmlformats.org/officeDocument/2006/relationships/image" Target="../media/image31.png"/><Relationship Id="rId65" Type="http://schemas.openxmlformats.org/officeDocument/2006/relationships/image" Target="../media/image30.png"/><Relationship Id="rId66" Type="http://schemas.openxmlformats.org/officeDocument/2006/relationships/image" Target="../media/image27.png"/><Relationship Id="rId67" Type="http://schemas.openxmlformats.org/officeDocument/2006/relationships/image" Target="../media/image28.png"/><Relationship Id="rId68" Type="http://schemas.openxmlformats.org/officeDocument/2006/relationships/image" Target="../media/image29.png"/><Relationship Id="rId69" Type="http://schemas.openxmlformats.org/officeDocument/2006/relationships/image" Target="../media/image30.png"/><Relationship Id="rId70" Type="http://schemas.openxmlformats.org/officeDocument/2006/relationships/image" Target="../media/image31.png"/><Relationship Id="rId71" Type="http://schemas.openxmlformats.org/officeDocument/2006/relationships/image" Target="../media/image31.png"/><Relationship Id="rId72" Type="http://schemas.openxmlformats.org/officeDocument/2006/relationships/image" Target="../media/image29.png"/><Relationship Id="rId73" Type="http://schemas.openxmlformats.org/officeDocument/2006/relationships/image" Target="../media/image30.png"/><Relationship Id="rId74" Type="http://schemas.openxmlformats.org/officeDocument/2006/relationships/image" Target="../media/image30.png"/><Relationship Id="rId75" Type="http://schemas.openxmlformats.org/officeDocument/2006/relationships/image" Target="../media/image27.png"/><Relationship Id="rId76" Type="http://schemas.openxmlformats.org/officeDocument/2006/relationships/image" Target="../media/image27.png"/><Relationship Id="rId77" Type="http://schemas.openxmlformats.org/officeDocument/2006/relationships/image" Target="../media/image31.png"/><Relationship Id="rId78" Type="http://schemas.openxmlformats.org/officeDocument/2006/relationships/image" Target="../media/image30.png"/><Relationship Id="rId79" Type="http://schemas.openxmlformats.org/officeDocument/2006/relationships/image" Target="../media/image27.png"/><Relationship Id="rId80" Type="http://schemas.openxmlformats.org/officeDocument/2006/relationships/image" Target="../media/image28.png"/><Relationship Id="rId81" Type="http://schemas.openxmlformats.org/officeDocument/2006/relationships/image" Target="../media/image29.png"/><Relationship Id="rId82" Type="http://schemas.openxmlformats.org/officeDocument/2006/relationships/image" Target="../media/image30.png"/><Relationship Id="rId83" Type="http://schemas.openxmlformats.org/officeDocument/2006/relationships/image" Target="../media/image31.png"/><Relationship Id="rId84" Type="http://schemas.openxmlformats.org/officeDocument/2006/relationships/image" Target="../media/image31.png"/><Relationship Id="rId85" Type="http://schemas.openxmlformats.org/officeDocument/2006/relationships/image" Target="../media/image29.png"/><Relationship Id="rId86" Type="http://schemas.openxmlformats.org/officeDocument/2006/relationships/image" Target="../media/image30.png"/><Relationship Id="rId87" Type="http://schemas.openxmlformats.org/officeDocument/2006/relationships/image" Target="../media/image30.png"/><Relationship Id="rId88" Type="http://schemas.openxmlformats.org/officeDocument/2006/relationships/image" Target="../media/image27.png"/><Relationship Id="rId89" Type="http://schemas.openxmlformats.org/officeDocument/2006/relationships/image" Target="../media/image27.png"/><Relationship Id="rId90" Type="http://schemas.openxmlformats.org/officeDocument/2006/relationships/image" Target="../media/image31.png"/><Relationship Id="rId91" Type="http://schemas.openxmlformats.org/officeDocument/2006/relationships/image" Target="../media/image30.png"/><Relationship Id="rId92" Type="http://schemas.openxmlformats.org/officeDocument/2006/relationships/image" Target="../media/image27.png"/><Relationship Id="rId93" Type="http://schemas.openxmlformats.org/officeDocument/2006/relationships/image" Target="../media/image28.png"/><Relationship Id="rId94" Type="http://schemas.openxmlformats.org/officeDocument/2006/relationships/image" Target="../media/image29.png"/><Relationship Id="rId95" Type="http://schemas.openxmlformats.org/officeDocument/2006/relationships/image" Target="../media/image30.png"/><Relationship Id="rId96" Type="http://schemas.openxmlformats.org/officeDocument/2006/relationships/image" Target="../media/image31.png"/><Relationship Id="rId97" Type="http://schemas.openxmlformats.org/officeDocument/2006/relationships/image" Target="../media/image31.png"/><Relationship Id="rId98" Type="http://schemas.openxmlformats.org/officeDocument/2006/relationships/image" Target="../media/image29.png"/><Relationship Id="rId99" Type="http://schemas.openxmlformats.org/officeDocument/2006/relationships/image" Target="../media/image30.png"/><Relationship Id="rId100" Type="http://schemas.openxmlformats.org/officeDocument/2006/relationships/image" Target="../media/image30.png"/><Relationship Id="rId101" Type="http://schemas.openxmlformats.org/officeDocument/2006/relationships/image" Target="../media/image27.png"/><Relationship Id="rId102" Type="http://schemas.openxmlformats.org/officeDocument/2006/relationships/image" Target="../media/image27.png"/><Relationship Id="rId103" Type="http://schemas.openxmlformats.org/officeDocument/2006/relationships/image" Target="../media/image31.png"/><Relationship Id="rId104" Type="http://schemas.openxmlformats.org/officeDocument/2006/relationships/image" Target="../media/image30.png"/><Relationship Id="rId10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395280" y="47628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苏教版三年级数学下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第九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7039080" y="6381720"/>
            <a:ext cx="2138400" cy="47628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6360" cy="55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124000" y="2117880"/>
            <a:ext cx="5068800" cy="138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第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4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课 面积的计算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971640" y="549360"/>
            <a:ext cx="7774920" cy="4443480"/>
            <a:chOff x="971640" y="549360"/>
            <a:chExt cx="7774920" cy="4443480"/>
          </a:xfrm>
        </p:grpSpPr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971640" y="1478160"/>
              <a:ext cx="6330960" cy="35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 flipV="1" rot="5400000">
              <a:off x="4030560" y="-1799280"/>
              <a:ext cx="289080" cy="626400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163080 h 6264000"/>
                <a:gd name="textAreaBottom" fmla="*/ 6100920 h 62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47240" y="549360"/>
              <a:ext cx="107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Arial"/>
                  <a:ea typeface="楷体_GB2312"/>
                </a:rPr>
                <a:t>28</a:t>
              </a:r>
              <a:r>
                <a:rPr b="1" lang="zh-CN" sz="3600" spc="-1" strike="noStrike">
                  <a:solidFill>
                    <a:srgbClr val="ffff00"/>
                  </a:solidFill>
                  <a:latin typeface="Arial"/>
                  <a:ea typeface="楷体_GB2312"/>
                </a:rPr>
                <a:t>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0800000">
              <a:off x="7306920" y="1478160"/>
              <a:ext cx="289080" cy="345600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90000 h 3456000"/>
                <a:gd name="textAreaBottom" fmla="*/ 3366000 h 345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73040" y="2918160"/>
              <a:ext cx="107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Arial"/>
                  <a:ea typeface="楷体_GB2312"/>
                </a:rPr>
                <a:t>15</a:t>
              </a:r>
              <a:r>
                <a:rPr b="1" lang="zh-CN" sz="3600" spc="-1" strike="noStrike">
                  <a:solidFill>
                    <a:srgbClr val="ffff00"/>
                  </a:solidFill>
                  <a:latin typeface="Arial"/>
                  <a:ea typeface="楷体_GB2312"/>
                </a:rPr>
                <a:t>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539640" y="50846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楷体_GB2312"/>
              </a:rPr>
              <a:t>这个篮球场的面积是多少平方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楷体_GB2312"/>
              </a:rPr>
              <a:t>半场是多少平方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161928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智慧闯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7928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551640" cy="3773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057480" y="2009880"/>
            <a:ext cx="300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华文彩云"/>
                <a:ea typeface="华文彩云"/>
              </a:rPr>
              <a:t>迎新年  联欢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619280" y="907920"/>
            <a:ext cx="5896080" cy="505080"/>
            <a:chOff x="1619280" y="907920"/>
            <a:chExt cx="5896080" cy="50508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7070760" y="90972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6697800" y="909720"/>
              <a:ext cx="4442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4"/>
            <a:stretch/>
          </p:blipFill>
          <p:spPr>
            <a:xfrm>
              <a:off x="6337440" y="909720"/>
              <a:ext cx="4442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5"/>
            <a:stretch/>
          </p:blipFill>
          <p:spPr>
            <a:xfrm>
              <a:off x="5964120" y="90972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6"/>
            <a:stretch/>
          </p:blipFill>
          <p:spPr>
            <a:xfrm>
              <a:off x="5618160" y="90972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7"/>
            <a:stretch/>
          </p:blipFill>
          <p:spPr>
            <a:xfrm>
              <a:off x="5245200" y="909720"/>
              <a:ext cx="4442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8"/>
            <a:stretch/>
          </p:blipFill>
          <p:spPr>
            <a:xfrm>
              <a:off x="4884840" y="909720"/>
              <a:ext cx="4442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9"/>
            <a:stretch/>
          </p:blipFill>
          <p:spPr>
            <a:xfrm>
              <a:off x="4511520" y="90972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10"/>
            <a:stretch/>
          </p:blipFill>
          <p:spPr>
            <a:xfrm>
              <a:off x="4178160" y="90972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11"/>
            <a:stretch/>
          </p:blipFill>
          <p:spPr>
            <a:xfrm>
              <a:off x="3805200" y="90972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2"/>
            <a:stretch/>
          </p:blipFill>
          <p:spPr>
            <a:xfrm>
              <a:off x="3444840" y="90972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13"/>
            <a:stretch/>
          </p:blipFill>
          <p:spPr>
            <a:xfrm>
              <a:off x="3071880" y="90972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14"/>
            <a:stretch/>
          </p:blipFill>
          <p:spPr>
            <a:xfrm>
              <a:off x="2725560" y="90972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5"/>
            <a:stretch/>
          </p:blipFill>
          <p:spPr>
            <a:xfrm>
              <a:off x="2352600" y="90972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16"/>
            <a:stretch/>
          </p:blipFill>
          <p:spPr>
            <a:xfrm>
              <a:off x="1992240" y="90792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17"/>
            <a:stretch/>
          </p:blipFill>
          <p:spPr>
            <a:xfrm>
              <a:off x="1619280" y="907920"/>
              <a:ext cx="444600" cy="50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"/>
          <p:cNvGrpSpPr/>
          <p:nvPr/>
        </p:nvGrpSpPr>
        <p:grpSpPr>
          <a:xfrm>
            <a:off x="1547640" y="1362240"/>
            <a:ext cx="503280" cy="3003480"/>
            <a:chOff x="1547640" y="1362240"/>
            <a:chExt cx="503280" cy="3003480"/>
          </a:xfrm>
        </p:grpSpPr>
        <p:pic>
          <p:nvPicPr>
            <p:cNvPr id="294" name="" descr=""/>
            <p:cNvPicPr/>
            <p:nvPr/>
          </p:nvPicPr>
          <p:blipFill>
            <a:blip r:embed="rId18"/>
            <a:stretch/>
          </p:blipFill>
          <p:spPr>
            <a:xfrm>
              <a:off x="1547640" y="1362240"/>
              <a:ext cx="50328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19"/>
            <a:stretch/>
          </p:blipFill>
          <p:spPr>
            <a:xfrm>
              <a:off x="1547640" y="1735200"/>
              <a:ext cx="50328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20"/>
            <a:stretch/>
          </p:blipFill>
          <p:spPr>
            <a:xfrm>
              <a:off x="1547640" y="2095560"/>
              <a:ext cx="50328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21"/>
            <a:stretch/>
          </p:blipFill>
          <p:spPr>
            <a:xfrm>
              <a:off x="1547640" y="2468520"/>
              <a:ext cx="50328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22"/>
            <a:stretch/>
          </p:blipFill>
          <p:spPr>
            <a:xfrm>
              <a:off x="1547640" y="2814480"/>
              <a:ext cx="50328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23"/>
            <a:stretch/>
          </p:blipFill>
          <p:spPr>
            <a:xfrm>
              <a:off x="1547640" y="3187800"/>
              <a:ext cx="50328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24"/>
            <a:stretch/>
          </p:blipFill>
          <p:spPr>
            <a:xfrm>
              <a:off x="1547640" y="3548160"/>
              <a:ext cx="50328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25"/>
            <a:stretch/>
          </p:blipFill>
          <p:spPr>
            <a:xfrm>
              <a:off x="1547640" y="3921120"/>
              <a:ext cx="50328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2" name=""/>
          <p:cNvGrpSpPr/>
          <p:nvPr/>
        </p:nvGrpSpPr>
        <p:grpSpPr>
          <a:xfrm>
            <a:off x="1763640" y="3859200"/>
            <a:ext cx="5738760" cy="538200"/>
            <a:chOff x="1763640" y="3859200"/>
            <a:chExt cx="5738760" cy="538200"/>
          </a:xfrm>
        </p:grpSpPr>
        <p:pic>
          <p:nvPicPr>
            <p:cNvPr id="303" name="" descr=""/>
            <p:cNvPicPr/>
            <p:nvPr/>
          </p:nvPicPr>
          <p:blipFill>
            <a:blip r:embed="rId26"/>
            <a:stretch/>
          </p:blipFill>
          <p:spPr>
            <a:xfrm>
              <a:off x="7058160" y="3860640"/>
              <a:ext cx="4442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27"/>
            <a:stretch/>
          </p:blipFill>
          <p:spPr>
            <a:xfrm>
              <a:off x="6697800" y="3860640"/>
              <a:ext cx="4442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28"/>
            <a:stretch/>
          </p:blipFill>
          <p:spPr>
            <a:xfrm>
              <a:off x="6324480" y="386064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29"/>
            <a:stretch/>
          </p:blipFill>
          <p:spPr>
            <a:xfrm>
              <a:off x="5978520" y="386064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30"/>
            <a:stretch/>
          </p:blipFill>
          <p:spPr>
            <a:xfrm>
              <a:off x="5605560" y="3860640"/>
              <a:ext cx="4442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31"/>
            <a:stretch/>
          </p:blipFill>
          <p:spPr>
            <a:xfrm>
              <a:off x="5245200" y="3860640"/>
              <a:ext cx="4442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32"/>
            <a:stretch/>
          </p:blipFill>
          <p:spPr>
            <a:xfrm>
              <a:off x="4871880" y="386064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33"/>
            <a:stretch/>
          </p:blipFill>
          <p:spPr>
            <a:xfrm>
              <a:off x="4538520" y="386064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34"/>
            <a:stretch/>
          </p:blipFill>
          <p:spPr>
            <a:xfrm>
              <a:off x="4165560" y="386064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35"/>
            <a:stretch/>
          </p:blipFill>
          <p:spPr>
            <a:xfrm>
              <a:off x="3780000" y="3860640"/>
              <a:ext cx="4442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36"/>
            <a:stretch/>
          </p:blipFill>
          <p:spPr>
            <a:xfrm>
              <a:off x="3432240" y="386064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37"/>
            <a:stretch/>
          </p:blipFill>
          <p:spPr>
            <a:xfrm>
              <a:off x="3086280" y="3860640"/>
              <a:ext cx="44424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38"/>
            <a:stretch/>
          </p:blipFill>
          <p:spPr>
            <a:xfrm>
              <a:off x="2712960" y="386064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39"/>
            <a:stretch/>
          </p:blipFill>
          <p:spPr>
            <a:xfrm>
              <a:off x="2352600" y="386064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40"/>
            <a:stretch/>
          </p:blipFill>
          <p:spPr>
            <a:xfrm>
              <a:off x="1979640" y="3859200"/>
              <a:ext cx="4446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41"/>
            <a:stretch/>
          </p:blipFill>
          <p:spPr>
            <a:xfrm>
              <a:off x="1763640" y="3952800"/>
              <a:ext cx="50328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9" name=""/>
          <p:cNvGrpSpPr/>
          <p:nvPr/>
        </p:nvGrpSpPr>
        <p:grpSpPr>
          <a:xfrm>
            <a:off x="7308720" y="1052640"/>
            <a:ext cx="503280" cy="3325680"/>
            <a:chOff x="7308720" y="1052640"/>
            <a:chExt cx="503280" cy="3325680"/>
          </a:xfrm>
        </p:grpSpPr>
        <p:pic>
          <p:nvPicPr>
            <p:cNvPr id="320" name="" descr=""/>
            <p:cNvPicPr/>
            <p:nvPr/>
          </p:nvPicPr>
          <p:blipFill>
            <a:blip r:embed="rId42"/>
            <a:stretch/>
          </p:blipFill>
          <p:spPr>
            <a:xfrm>
              <a:off x="7308720" y="1052640"/>
              <a:ext cx="50328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43"/>
            <a:stretch/>
          </p:blipFill>
          <p:spPr>
            <a:xfrm>
              <a:off x="7308720" y="1413000"/>
              <a:ext cx="50328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44"/>
            <a:stretch/>
          </p:blipFill>
          <p:spPr>
            <a:xfrm>
              <a:off x="7308720" y="1785960"/>
              <a:ext cx="50328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45"/>
            <a:stretch/>
          </p:blipFill>
          <p:spPr>
            <a:xfrm>
              <a:off x="7308720" y="2131920"/>
              <a:ext cx="50328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46"/>
            <a:stretch/>
          </p:blipFill>
          <p:spPr>
            <a:xfrm>
              <a:off x="7308720" y="2505240"/>
              <a:ext cx="50328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47"/>
            <a:stretch/>
          </p:blipFill>
          <p:spPr>
            <a:xfrm>
              <a:off x="7308720" y="2865600"/>
              <a:ext cx="50328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48"/>
            <a:stretch/>
          </p:blipFill>
          <p:spPr>
            <a:xfrm>
              <a:off x="7308720" y="3238560"/>
              <a:ext cx="50328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49"/>
            <a:stretch/>
          </p:blipFill>
          <p:spPr>
            <a:xfrm>
              <a:off x="7308720" y="3573360"/>
              <a:ext cx="50328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50"/>
            <a:stretch/>
          </p:blipFill>
          <p:spPr>
            <a:xfrm>
              <a:off x="7308720" y="3933720"/>
              <a:ext cx="50328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"/>
          <p:cNvSpPr/>
          <p:nvPr/>
        </p:nvSpPr>
        <p:spPr>
          <a:xfrm>
            <a:off x="684360" y="4437000"/>
            <a:ext cx="5472000" cy="2421000"/>
          </a:xfrm>
          <a:prstGeom prst="cloudCallout">
            <a:avLst>
              <a:gd name="adj1" fmla="val 77384"/>
              <a:gd name="adj2" fmla="val -10129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黑板长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34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分米，宽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分米，花边至少长多少分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51"/>
          <a:stretch/>
        </p:blipFill>
        <p:spPr>
          <a:xfrm>
            <a:off x="6300720" y="3832200"/>
            <a:ext cx="2236680" cy="30258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0" y="0"/>
            <a:ext cx="161928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智慧闯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4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6000"/>
                            </p:stCondLst>
                            <p:childTnLst>
                              <p:par>
                                <p:cTn id="7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908000" y="155736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楷体_GB2312"/>
              </a:rPr>
              <a:t>边长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楷体_GB2312"/>
              </a:rPr>
              <a:t>厘米的正方形，面积和周长（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95640" y="36450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Comic Sans MS"/>
                <a:ea typeface="楷体_GB2312"/>
              </a:rPr>
              <a:t>A</a:t>
            </a:r>
            <a:r>
              <a:rPr b="1" lang="zh-CN" sz="5400" spc="-1" strike="noStrike">
                <a:solidFill>
                  <a:srgbClr val="009999"/>
                </a:solidFill>
                <a:latin typeface="Comic Sans MS"/>
                <a:ea typeface="楷体_GB2312"/>
              </a:rPr>
              <a:t>、相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36000" y="4581360"/>
            <a:ext cx="153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Comic Sans MS"/>
                <a:ea typeface="楷体_GB2312"/>
              </a:rPr>
              <a:t>B</a:t>
            </a:r>
            <a:r>
              <a:rPr b="1" lang="zh-CN" sz="5400" spc="-1" strike="noStrike">
                <a:solidFill>
                  <a:srgbClr val="009999"/>
                </a:solidFill>
                <a:latin typeface="Comic Sans MS"/>
                <a:ea typeface="楷体_GB2312"/>
              </a:rPr>
              <a:t>、不相等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7093080" y="620640"/>
            <a:ext cx="1799640" cy="722160"/>
            <a:chOff x="7093080" y="620640"/>
            <a:chExt cx="1799640" cy="722160"/>
          </a:xfrm>
        </p:grpSpPr>
        <p:sp>
          <p:nvSpPr>
            <p:cNvPr id="336" name=""/>
            <p:cNvSpPr/>
            <p:nvPr/>
          </p:nvSpPr>
          <p:spPr>
            <a:xfrm>
              <a:off x="7093080" y="620640"/>
              <a:ext cx="1799640" cy="720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93080" y="639360"/>
              <a:ext cx="1775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选一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5134320" y="2060640"/>
            <a:ext cx="64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Comic Sans MS"/>
                <a:ea typeface="楷体_GB2312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161928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智慧闯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547640" y="1989000"/>
            <a:ext cx="72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楷体_GB2312"/>
              </a:rPr>
              <a:t>爸爸的身高是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楷体_GB2312"/>
              </a:rPr>
              <a:t>175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楷体_GB2312"/>
              </a:rPr>
              <a:t>（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40000" y="3860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Comic Sans MS"/>
                <a:ea typeface="楷体_GB2312"/>
              </a:rPr>
              <a:t>B</a:t>
            </a:r>
            <a:r>
              <a:rPr b="1" lang="zh-CN" sz="5400" spc="-1" strike="noStrike">
                <a:solidFill>
                  <a:srgbClr val="009999"/>
                </a:solidFill>
                <a:latin typeface="Comic Sans MS"/>
                <a:ea typeface="楷体_GB2312"/>
              </a:rPr>
              <a:t>、厘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79640" y="4797360"/>
            <a:ext cx="487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Comic Sans MS"/>
                <a:ea typeface="楷体_GB2312"/>
              </a:rPr>
              <a:t>C</a:t>
            </a:r>
            <a:r>
              <a:rPr b="1" lang="zh-CN" sz="5400" spc="-1" strike="noStrike">
                <a:solidFill>
                  <a:srgbClr val="009999"/>
                </a:solidFill>
                <a:latin typeface="Comic Sans MS"/>
                <a:ea typeface="楷体_GB2312"/>
              </a:rPr>
              <a:t>、平方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7093080" y="620640"/>
            <a:ext cx="1799640" cy="722160"/>
            <a:chOff x="7093080" y="620640"/>
            <a:chExt cx="1799640" cy="722160"/>
          </a:xfrm>
        </p:grpSpPr>
        <p:sp>
          <p:nvSpPr>
            <p:cNvPr id="344" name=""/>
            <p:cNvSpPr/>
            <p:nvPr/>
          </p:nvSpPr>
          <p:spPr>
            <a:xfrm>
              <a:off x="7093080" y="620640"/>
              <a:ext cx="1799640" cy="720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93080" y="639360"/>
              <a:ext cx="1775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选一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195640" y="285264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Comic Sans MS"/>
                <a:ea typeface="楷体_GB2312"/>
              </a:rPr>
              <a:t>A</a:t>
            </a:r>
            <a:r>
              <a:rPr b="1" lang="zh-CN" sz="5400" spc="-1" strike="noStrike">
                <a:solidFill>
                  <a:srgbClr val="009999"/>
                </a:solidFill>
                <a:latin typeface="Comic Sans MS"/>
                <a:ea typeface="楷体_GB2312"/>
              </a:rPr>
              <a:t>、平方厘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37600" y="1916280"/>
            <a:ext cx="64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Comic Sans MS"/>
                <a:ea typeface="楷体_GB2312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161928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智慧闯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547640" y="1989000"/>
            <a:ext cx="72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楷体_GB2312"/>
              </a:rPr>
              <a:t>长方形的周长等于（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093080" y="620640"/>
            <a:ext cx="1799640" cy="722160"/>
            <a:chOff x="7093080" y="620640"/>
            <a:chExt cx="1799640" cy="722160"/>
          </a:xfrm>
        </p:grpSpPr>
        <p:sp>
          <p:nvSpPr>
            <p:cNvPr id="351" name=""/>
            <p:cNvSpPr/>
            <p:nvPr/>
          </p:nvSpPr>
          <p:spPr>
            <a:xfrm>
              <a:off x="7093080" y="620640"/>
              <a:ext cx="1799640" cy="720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93080" y="639360"/>
              <a:ext cx="1775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选一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187280" y="292428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Comic Sans MS"/>
                <a:ea typeface="楷体_GB2312"/>
              </a:rPr>
              <a:t>A</a:t>
            </a:r>
            <a:r>
              <a:rPr b="1" lang="zh-CN" sz="5400" spc="-1" strike="noStrike">
                <a:solidFill>
                  <a:srgbClr val="009999"/>
                </a:solidFill>
                <a:latin typeface="Comic Sans MS"/>
                <a:ea typeface="楷体_GB2312"/>
              </a:rPr>
              <a:t>、长</a:t>
            </a:r>
            <a:r>
              <a:rPr b="1" lang="zh-CN" sz="5400" spc="-1" strike="noStrike">
                <a:solidFill>
                  <a:srgbClr val="009999"/>
                </a:solidFill>
                <a:latin typeface="Arial"/>
                <a:ea typeface="楷体_GB2312"/>
              </a:rPr>
              <a:t>×2</a:t>
            </a:r>
            <a:r>
              <a:rPr b="1" lang="zh-CN" sz="5400" spc="-1" strike="noStrike">
                <a:solidFill>
                  <a:srgbClr val="009999"/>
                </a:solidFill>
                <a:latin typeface="Arial"/>
                <a:ea typeface="楷体_GB2312"/>
              </a:rPr>
              <a:t>＋宽</a:t>
            </a:r>
            <a:r>
              <a:rPr b="1" lang="zh-CN" sz="5400" spc="-1" strike="noStrike">
                <a:solidFill>
                  <a:srgbClr val="009999"/>
                </a:solidFill>
                <a:latin typeface="Arial"/>
                <a:ea typeface="楷体_GB2312"/>
              </a:rPr>
              <a:t>×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32000" y="4581360"/>
            <a:ext cx="652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99"/>
                </a:solidFill>
                <a:latin typeface="Comic Sans MS"/>
                <a:ea typeface="楷体_GB2312"/>
              </a:rPr>
              <a:t>C</a:t>
            </a:r>
            <a:r>
              <a:rPr b="1" lang="zh-CN" sz="5400" spc="-1" strike="noStrike">
                <a:solidFill>
                  <a:srgbClr val="009999"/>
                </a:solidFill>
                <a:latin typeface="Comic Sans MS"/>
                <a:ea typeface="楷体_GB2312"/>
              </a:rPr>
              <a:t>、（长</a:t>
            </a:r>
            <a:r>
              <a:rPr b="1" lang="zh-CN" sz="5400" spc="-1" strike="noStrike">
                <a:solidFill>
                  <a:srgbClr val="009999"/>
                </a:solidFill>
                <a:latin typeface="Arial"/>
                <a:ea typeface="楷体_GB2312"/>
              </a:rPr>
              <a:t>＋宽）</a:t>
            </a:r>
            <a:r>
              <a:rPr b="1" lang="zh-CN" sz="5400" spc="-1" strike="noStrike">
                <a:solidFill>
                  <a:srgbClr val="009999"/>
                </a:solidFill>
                <a:latin typeface="Arial"/>
                <a:ea typeface="楷体_GB2312"/>
              </a:rPr>
              <a:t>×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187280" y="3789360"/>
            <a:ext cx="460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99"/>
                </a:solidFill>
                <a:latin typeface="Comic Sans MS"/>
                <a:ea typeface="楷体_GB2312"/>
              </a:rPr>
              <a:t>B</a:t>
            </a:r>
            <a:r>
              <a:rPr b="1" lang="zh-CN" sz="5400" spc="-1" strike="noStrike">
                <a:solidFill>
                  <a:srgbClr val="009999"/>
                </a:solidFill>
                <a:latin typeface="Comic Sans MS"/>
                <a:ea typeface="楷体_GB2312"/>
              </a:rPr>
              <a:t>、长</a:t>
            </a:r>
            <a:r>
              <a:rPr b="1" lang="zh-CN" sz="5400" spc="-1" strike="noStrike">
                <a:solidFill>
                  <a:srgbClr val="009999"/>
                </a:solidFill>
                <a:latin typeface="Arial"/>
                <a:ea typeface="楷体_GB2312"/>
              </a:rPr>
              <a:t>×</a:t>
            </a:r>
            <a:r>
              <a:rPr b="1" lang="zh-CN" sz="5400" spc="-1" strike="noStrike">
                <a:solidFill>
                  <a:srgbClr val="009999"/>
                </a:solidFill>
                <a:latin typeface="Comic Sans MS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9999"/>
                </a:solidFill>
                <a:latin typeface="Arial"/>
                <a:ea typeface="楷体_GB2312"/>
              </a:rPr>
              <a:t>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379200" y="1916280"/>
            <a:ext cx="109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Comic Sans MS"/>
                <a:ea typeface="楷体_GB2312"/>
              </a:rPr>
              <a:t>A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61928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智慧闯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7928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2720" y="765000"/>
            <a:ext cx="7918560" cy="3394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1720" y="765000"/>
            <a:ext cx="8071920" cy="3393720"/>
            <a:chOff x="531720" y="765000"/>
            <a:chExt cx="8071920" cy="3393720"/>
          </a:xfrm>
        </p:grpSpPr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531720" y="790200"/>
              <a:ext cx="70452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2"/>
            <a:stretch/>
          </p:blipFill>
          <p:spPr>
            <a:xfrm>
              <a:off x="1190160" y="790200"/>
              <a:ext cx="533880" cy="7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3"/>
            <a:stretch/>
          </p:blipFill>
          <p:spPr>
            <a:xfrm>
              <a:off x="2133000" y="839880"/>
              <a:ext cx="56196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4"/>
            <a:stretch/>
          </p:blipFill>
          <p:spPr>
            <a:xfrm>
              <a:off x="1707120" y="1443600"/>
              <a:ext cx="493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5"/>
            <a:stretch/>
          </p:blipFill>
          <p:spPr>
            <a:xfrm>
              <a:off x="1707120" y="839880"/>
              <a:ext cx="51228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6"/>
            <a:stretch/>
          </p:blipFill>
          <p:spPr>
            <a:xfrm>
              <a:off x="1283040" y="1142280"/>
              <a:ext cx="5137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7"/>
            <a:stretch/>
          </p:blipFill>
          <p:spPr>
            <a:xfrm>
              <a:off x="954000" y="1443600"/>
              <a:ext cx="56160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8"/>
            <a:stretch/>
          </p:blipFill>
          <p:spPr>
            <a:xfrm>
              <a:off x="2224440" y="1546560"/>
              <a:ext cx="49392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9"/>
            <a:stretch/>
          </p:blipFill>
          <p:spPr>
            <a:xfrm>
              <a:off x="2152800" y="1948680"/>
              <a:ext cx="49392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10"/>
            <a:stretch/>
          </p:blipFill>
          <p:spPr>
            <a:xfrm>
              <a:off x="1331280" y="1948680"/>
              <a:ext cx="703080" cy="75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11"/>
            <a:stretch/>
          </p:blipFill>
          <p:spPr>
            <a:xfrm>
              <a:off x="626040" y="1953720"/>
              <a:ext cx="70524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2"/>
            <a:stretch/>
          </p:blipFill>
          <p:spPr>
            <a:xfrm>
              <a:off x="626040" y="1546560"/>
              <a:ext cx="511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13"/>
            <a:stretch/>
          </p:blipFill>
          <p:spPr>
            <a:xfrm>
              <a:off x="1190160" y="1950840"/>
              <a:ext cx="493920" cy="7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14"/>
            <a:stretch/>
          </p:blipFill>
          <p:spPr>
            <a:xfrm>
              <a:off x="608040" y="2244960"/>
              <a:ext cx="7045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15"/>
            <a:stretch/>
          </p:blipFill>
          <p:spPr>
            <a:xfrm>
              <a:off x="1266480" y="2244960"/>
              <a:ext cx="53352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16"/>
            <a:stretch/>
          </p:blipFill>
          <p:spPr>
            <a:xfrm>
              <a:off x="2209320" y="2294640"/>
              <a:ext cx="56196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17"/>
            <a:stretch/>
          </p:blipFill>
          <p:spPr>
            <a:xfrm>
              <a:off x="1783800" y="2898360"/>
              <a:ext cx="493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18"/>
            <a:stretch/>
          </p:blipFill>
          <p:spPr>
            <a:xfrm>
              <a:off x="1783800" y="2294640"/>
              <a:ext cx="511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19"/>
            <a:stretch/>
          </p:blipFill>
          <p:spPr>
            <a:xfrm>
              <a:off x="1359720" y="2597400"/>
              <a:ext cx="513360" cy="7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20"/>
            <a:stretch/>
          </p:blipFill>
          <p:spPr>
            <a:xfrm>
              <a:off x="1030320" y="2898360"/>
              <a:ext cx="56160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21"/>
            <a:stretch/>
          </p:blipFill>
          <p:spPr>
            <a:xfrm>
              <a:off x="2301120" y="2999880"/>
              <a:ext cx="49356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22"/>
            <a:stretch/>
          </p:blipFill>
          <p:spPr>
            <a:xfrm>
              <a:off x="2229480" y="3402000"/>
              <a:ext cx="493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23"/>
            <a:stretch/>
          </p:blipFill>
          <p:spPr>
            <a:xfrm>
              <a:off x="1407960" y="3402000"/>
              <a:ext cx="70308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24"/>
            <a:stretch/>
          </p:blipFill>
          <p:spPr>
            <a:xfrm>
              <a:off x="702720" y="3408840"/>
              <a:ext cx="70524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/>
            <p:cNvPicPr/>
            <p:nvPr/>
          </p:nvPicPr>
          <p:blipFill>
            <a:blip r:embed="rId25"/>
            <a:stretch/>
          </p:blipFill>
          <p:spPr>
            <a:xfrm>
              <a:off x="702720" y="2999880"/>
              <a:ext cx="51192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26"/>
            <a:stretch/>
          </p:blipFill>
          <p:spPr>
            <a:xfrm>
              <a:off x="1266480" y="3405600"/>
              <a:ext cx="49392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27"/>
            <a:stretch/>
          </p:blipFill>
          <p:spPr>
            <a:xfrm flipH="1">
              <a:off x="3973680" y="790200"/>
              <a:ext cx="70524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28"/>
            <a:stretch/>
          </p:blipFill>
          <p:spPr>
            <a:xfrm flipH="1">
              <a:off x="3486960" y="790200"/>
              <a:ext cx="533520" cy="7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" descr=""/>
            <p:cNvPicPr/>
            <p:nvPr/>
          </p:nvPicPr>
          <p:blipFill>
            <a:blip r:embed="rId29"/>
            <a:stretch/>
          </p:blipFill>
          <p:spPr>
            <a:xfrm flipH="1">
              <a:off x="2515680" y="839880"/>
              <a:ext cx="56160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30"/>
            <a:stretch/>
          </p:blipFill>
          <p:spPr>
            <a:xfrm flipH="1">
              <a:off x="3009240" y="1443600"/>
              <a:ext cx="493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31"/>
            <a:stretch/>
          </p:blipFill>
          <p:spPr>
            <a:xfrm flipH="1">
              <a:off x="2991240" y="839880"/>
              <a:ext cx="51192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32"/>
            <a:stretch/>
          </p:blipFill>
          <p:spPr>
            <a:xfrm flipH="1">
              <a:off x="3413520" y="1142280"/>
              <a:ext cx="51336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33"/>
            <a:stretch/>
          </p:blipFill>
          <p:spPr>
            <a:xfrm flipH="1">
              <a:off x="3694320" y="1443600"/>
              <a:ext cx="56196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34"/>
            <a:stretch/>
          </p:blipFill>
          <p:spPr>
            <a:xfrm flipH="1">
              <a:off x="2491920" y="1546560"/>
              <a:ext cx="49356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35"/>
            <a:stretch/>
          </p:blipFill>
          <p:spPr>
            <a:xfrm flipH="1">
              <a:off x="2563560" y="1948680"/>
              <a:ext cx="49392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36"/>
            <a:stretch/>
          </p:blipFill>
          <p:spPr>
            <a:xfrm flipH="1">
              <a:off x="3175560" y="1948680"/>
              <a:ext cx="703440" cy="75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37"/>
            <a:stretch/>
          </p:blipFill>
          <p:spPr>
            <a:xfrm flipH="1">
              <a:off x="3879000" y="1953720"/>
              <a:ext cx="7045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38"/>
            <a:stretch/>
          </p:blipFill>
          <p:spPr>
            <a:xfrm flipH="1">
              <a:off x="4071960" y="1546560"/>
              <a:ext cx="511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" descr=""/>
            <p:cNvPicPr/>
            <p:nvPr/>
          </p:nvPicPr>
          <p:blipFill>
            <a:blip r:embed="rId39"/>
            <a:stretch/>
          </p:blipFill>
          <p:spPr>
            <a:xfrm flipH="1">
              <a:off x="3526560" y="1950840"/>
              <a:ext cx="493560" cy="75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0" name=""/>
            <p:cNvGrpSpPr/>
            <p:nvPr/>
          </p:nvGrpSpPr>
          <p:grpSpPr>
            <a:xfrm>
              <a:off x="2568600" y="2244960"/>
              <a:ext cx="2185920" cy="1913400"/>
              <a:chOff x="2568600" y="2244960"/>
              <a:chExt cx="2185920" cy="1913400"/>
            </a:xfrm>
          </p:grpSpPr>
          <p:pic>
            <p:nvPicPr>
              <p:cNvPr id="401" name="" descr=""/>
              <p:cNvPicPr/>
              <p:nvPr/>
            </p:nvPicPr>
            <p:blipFill>
              <a:blip r:embed="rId40"/>
              <a:stretch/>
            </p:blipFill>
            <p:spPr>
              <a:xfrm flipH="1">
                <a:off x="4050000" y="2244960"/>
                <a:ext cx="704520" cy="74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" descr=""/>
              <p:cNvPicPr/>
              <p:nvPr/>
            </p:nvPicPr>
            <p:blipFill>
              <a:blip r:embed="rId41"/>
              <a:stretch/>
            </p:blipFill>
            <p:spPr>
              <a:xfrm flipH="1">
                <a:off x="3563280" y="2244960"/>
                <a:ext cx="533520" cy="75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" descr=""/>
              <p:cNvPicPr/>
              <p:nvPr/>
            </p:nvPicPr>
            <p:blipFill>
              <a:blip r:embed="rId42"/>
              <a:stretch/>
            </p:blipFill>
            <p:spPr>
              <a:xfrm flipH="1">
                <a:off x="2591280" y="2294640"/>
                <a:ext cx="56196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" descr=""/>
              <p:cNvPicPr/>
              <p:nvPr/>
            </p:nvPicPr>
            <p:blipFill>
              <a:blip r:embed="rId43"/>
              <a:stretch/>
            </p:blipFill>
            <p:spPr>
              <a:xfrm flipH="1">
                <a:off x="3085920" y="2898720"/>
                <a:ext cx="493920" cy="75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" descr=""/>
              <p:cNvPicPr/>
              <p:nvPr/>
            </p:nvPicPr>
            <p:blipFill>
              <a:blip r:embed="rId44"/>
              <a:stretch/>
            </p:blipFill>
            <p:spPr>
              <a:xfrm flipH="1">
                <a:off x="3067560" y="2294640"/>
                <a:ext cx="51192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" descr=""/>
              <p:cNvPicPr/>
              <p:nvPr/>
            </p:nvPicPr>
            <p:blipFill>
              <a:blip r:embed="rId45"/>
              <a:stretch/>
            </p:blipFill>
            <p:spPr>
              <a:xfrm flipH="1">
                <a:off x="3490200" y="2597400"/>
                <a:ext cx="513360" cy="75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46"/>
              <a:stretch/>
            </p:blipFill>
            <p:spPr>
              <a:xfrm flipH="1">
                <a:off x="3771000" y="2898720"/>
                <a:ext cx="56160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47"/>
              <a:stretch/>
            </p:blipFill>
            <p:spPr>
              <a:xfrm flipH="1">
                <a:off x="2568600" y="3000240"/>
                <a:ext cx="493560" cy="75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48"/>
              <a:stretch/>
            </p:blipFill>
            <p:spPr>
              <a:xfrm flipH="1">
                <a:off x="2639880" y="3402720"/>
                <a:ext cx="493920" cy="75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0" name="" descr=""/>
              <p:cNvPicPr/>
              <p:nvPr/>
            </p:nvPicPr>
            <p:blipFill>
              <a:blip r:embed="rId49"/>
              <a:stretch/>
            </p:blipFill>
            <p:spPr>
              <a:xfrm flipH="1">
                <a:off x="3251880" y="3402720"/>
                <a:ext cx="703080" cy="75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1" name="" descr=""/>
              <p:cNvPicPr/>
              <p:nvPr/>
            </p:nvPicPr>
            <p:blipFill>
              <a:blip r:embed="rId50"/>
              <a:stretch/>
            </p:blipFill>
            <p:spPr>
              <a:xfrm flipH="1">
                <a:off x="3955320" y="3408120"/>
                <a:ext cx="705240" cy="75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" descr=""/>
              <p:cNvPicPr/>
              <p:nvPr/>
            </p:nvPicPr>
            <p:blipFill>
              <a:blip r:embed="rId51"/>
              <a:stretch/>
            </p:blipFill>
            <p:spPr>
              <a:xfrm flipH="1">
                <a:off x="4148640" y="3000240"/>
                <a:ext cx="511920" cy="75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" descr=""/>
              <p:cNvPicPr/>
              <p:nvPr/>
            </p:nvPicPr>
            <p:blipFill>
              <a:blip r:embed="rId52"/>
              <a:stretch/>
            </p:blipFill>
            <p:spPr>
              <a:xfrm flipH="1">
                <a:off x="3602880" y="3404880"/>
                <a:ext cx="493560" cy="753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4" name="" descr=""/>
            <p:cNvPicPr/>
            <p:nvPr/>
          </p:nvPicPr>
          <p:blipFill>
            <a:blip r:embed="rId53"/>
            <a:stretch/>
          </p:blipFill>
          <p:spPr>
            <a:xfrm>
              <a:off x="4379760" y="765000"/>
              <a:ext cx="70524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54"/>
            <a:stretch/>
          </p:blipFill>
          <p:spPr>
            <a:xfrm>
              <a:off x="5038200" y="765000"/>
              <a:ext cx="53388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55"/>
            <a:stretch/>
          </p:blipFill>
          <p:spPr>
            <a:xfrm>
              <a:off x="5981040" y="815040"/>
              <a:ext cx="56196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56"/>
            <a:stretch/>
          </p:blipFill>
          <p:spPr>
            <a:xfrm>
              <a:off x="5555880" y="1418400"/>
              <a:ext cx="49356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57"/>
            <a:stretch/>
          </p:blipFill>
          <p:spPr>
            <a:xfrm>
              <a:off x="5555880" y="815040"/>
              <a:ext cx="51192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58"/>
            <a:stretch/>
          </p:blipFill>
          <p:spPr>
            <a:xfrm>
              <a:off x="5131440" y="1117440"/>
              <a:ext cx="5137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59"/>
            <a:stretch/>
          </p:blipFill>
          <p:spPr>
            <a:xfrm>
              <a:off x="4802400" y="1418400"/>
              <a:ext cx="561600" cy="75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60"/>
            <a:stretch/>
          </p:blipFill>
          <p:spPr>
            <a:xfrm>
              <a:off x="6072840" y="1521720"/>
              <a:ext cx="493920" cy="7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61"/>
            <a:stretch/>
          </p:blipFill>
          <p:spPr>
            <a:xfrm>
              <a:off x="6001200" y="1923840"/>
              <a:ext cx="49392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62"/>
            <a:stretch/>
          </p:blipFill>
          <p:spPr>
            <a:xfrm>
              <a:off x="5179680" y="1923840"/>
              <a:ext cx="703080" cy="75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63"/>
            <a:stretch/>
          </p:blipFill>
          <p:spPr>
            <a:xfrm>
              <a:off x="4474440" y="1928880"/>
              <a:ext cx="70524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64"/>
            <a:stretch/>
          </p:blipFill>
          <p:spPr>
            <a:xfrm>
              <a:off x="4474440" y="1521720"/>
              <a:ext cx="511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65"/>
            <a:stretch/>
          </p:blipFill>
          <p:spPr>
            <a:xfrm>
              <a:off x="5038200" y="1925640"/>
              <a:ext cx="49392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66"/>
            <a:stretch/>
          </p:blipFill>
          <p:spPr>
            <a:xfrm>
              <a:off x="4456440" y="2220120"/>
              <a:ext cx="7045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67"/>
            <a:stretch/>
          </p:blipFill>
          <p:spPr>
            <a:xfrm>
              <a:off x="5114880" y="2220120"/>
              <a:ext cx="533520" cy="7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68"/>
            <a:stretch/>
          </p:blipFill>
          <p:spPr>
            <a:xfrm>
              <a:off x="6057720" y="2269800"/>
              <a:ext cx="56196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69"/>
            <a:stretch/>
          </p:blipFill>
          <p:spPr>
            <a:xfrm>
              <a:off x="5631840" y="2873520"/>
              <a:ext cx="493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70"/>
            <a:stretch/>
          </p:blipFill>
          <p:spPr>
            <a:xfrm>
              <a:off x="5631840" y="2269800"/>
              <a:ext cx="51228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71"/>
            <a:stretch/>
          </p:blipFill>
          <p:spPr>
            <a:xfrm>
              <a:off x="5208120" y="2572560"/>
              <a:ext cx="513360" cy="7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72"/>
            <a:stretch/>
          </p:blipFill>
          <p:spPr>
            <a:xfrm>
              <a:off x="4878720" y="2873520"/>
              <a:ext cx="56160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73"/>
            <a:stretch/>
          </p:blipFill>
          <p:spPr>
            <a:xfrm>
              <a:off x="6149520" y="2975040"/>
              <a:ext cx="49356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74"/>
            <a:stretch/>
          </p:blipFill>
          <p:spPr>
            <a:xfrm>
              <a:off x="6077880" y="3377160"/>
              <a:ext cx="493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75"/>
            <a:stretch/>
          </p:blipFill>
          <p:spPr>
            <a:xfrm>
              <a:off x="5256360" y="3377160"/>
              <a:ext cx="70308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76"/>
            <a:stretch/>
          </p:blipFill>
          <p:spPr>
            <a:xfrm>
              <a:off x="4551120" y="3384000"/>
              <a:ext cx="70524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77"/>
            <a:stretch/>
          </p:blipFill>
          <p:spPr>
            <a:xfrm>
              <a:off x="4551120" y="2975040"/>
              <a:ext cx="51192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78"/>
            <a:stretch/>
          </p:blipFill>
          <p:spPr>
            <a:xfrm>
              <a:off x="5114880" y="3380760"/>
              <a:ext cx="493920" cy="7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" descr=""/>
            <p:cNvPicPr/>
            <p:nvPr/>
          </p:nvPicPr>
          <p:blipFill>
            <a:blip r:embed="rId79"/>
            <a:stretch/>
          </p:blipFill>
          <p:spPr>
            <a:xfrm flipH="1">
              <a:off x="7822080" y="765000"/>
              <a:ext cx="70524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" descr=""/>
            <p:cNvPicPr/>
            <p:nvPr/>
          </p:nvPicPr>
          <p:blipFill>
            <a:blip r:embed="rId80"/>
            <a:stretch/>
          </p:blipFill>
          <p:spPr>
            <a:xfrm flipH="1">
              <a:off x="7335000" y="765000"/>
              <a:ext cx="53352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81"/>
            <a:stretch/>
          </p:blipFill>
          <p:spPr>
            <a:xfrm flipH="1">
              <a:off x="6364080" y="815040"/>
              <a:ext cx="56160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82"/>
            <a:stretch/>
          </p:blipFill>
          <p:spPr>
            <a:xfrm flipH="1">
              <a:off x="6857640" y="1418400"/>
              <a:ext cx="493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" descr=""/>
            <p:cNvPicPr/>
            <p:nvPr/>
          </p:nvPicPr>
          <p:blipFill>
            <a:blip r:embed="rId83"/>
            <a:stretch/>
          </p:blipFill>
          <p:spPr>
            <a:xfrm flipH="1">
              <a:off x="6839640" y="815040"/>
              <a:ext cx="51192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84"/>
            <a:stretch/>
          </p:blipFill>
          <p:spPr>
            <a:xfrm flipH="1">
              <a:off x="7261920" y="1117440"/>
              <a:ext cx="51336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" descr=""/>
            <p:cNvPicPr/>
            <p:nvPr/>
          </p:nvPicPr>
          <p:blipFill>
            <a:blip r:embed="rId85"/>
            <a:stretch/>
          </p:blipFill>
          <p:spPr>
            <a:xfrm flipH="1">
              <a:off x="7542360" y="1418400"/>
              <a:ext cx="561960" cy="75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86"/>
            <a:stretch/>
          </p:blipFill>
          <p:spPr>
            <a:xfrm flipH="1">
              <a:off x="6340680" y="1521720"/>
              <a:ext cx="493920" cy="7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87"/>
            <a:stretch/>
          </p:blipFill>
          <p:spPr>
            <a:xfrm flipH="1">
              <a:off x="6411960" y="1923840"/>
              <a:ext cx="49356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88"/>
            <a:stretch/>
          </p:blipFill>
          <p:spPr>
            <a:xfrm flipH="1">
              <a:off x="7023960" y="1923840"/>
              <a:ext cx="703440" cy="75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89"/>
            <a:stretch/>
          </p:blipFill>
          <p:spPr>
            <a:xfrm flipH="1">
              <a:off x="7727400" y="1928880"/>
              <a:ext cx="7045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90"/>
            <a:stretch/>
          </p:blipFill>
          <p:spPr>
            <a:xfrm flipH="1">
              <a:off x="7920360" y="1521720"/>
              <a:ext cx="5119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91"/>
            <a:stretch/>
          </p:blipFill>
          <p:spPr>
            <a:xfrm flipH="1">
              <a:off x="7374600" y="1925640"/>
              <a:ext cx="493560" cy="75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3" name=""/>
            <p:cNvGrpSpPr/>
            <p:nvPr/>
          </p:nvGrpSpPr>
          <p:grpSpPr>
            <a:xfrm>
              <a:off x="6416640" y="2220120"/>
              <a:ext cx="2187000" cy="1912680"/>
              <a:chOff x="6416640" y="2220120"/>
              <a:chExt cx="2187000" cy="1912680"/>
            </a:xfrm>
          </p:grpSpPr>
          <p:pic>
            <p:nvPicPr>
              <p:cNvPr id="454" name="" descr=""/>
              <p:cNvPicPr/>
              <p:nvPr/>
            </p:nvPicPr>
            <p:blipFill>
              <a:blip r:embed="rId92"/>
              <a:stretch/>
            </p:blipFill>
            <p:spPr>
              <a:xfrm flipH="1">
                <a:off x="7898760" y="2220120"/>
                <a:ext cx="704880" cy="74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5" name="" descr=""/>
              <p:cNvPicPr/>
              <p:nvPr/>
            </p:nvPicPr>
            <p:blipFill>
              <a:blip r:embed="rId93"/>
              <a:stretch/>
            </p:blipFill>
            <p:spPr>
              <a:xfrm flipH="1">
                <a:off x="7411320" y="2220120"/>
                <a:ext cx="533520" cy="75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" descr=""/>
              <p:cNvPicPr/>
              <p:nvPr/>
            </p:nvPicPr>
            <p:blipFill>
              <a:blip r:embed="rId94"/>
              <a:stretch/>
            </p:blipFill>
            <p:spPr>
              <a:xfrm flipH="1">
                <a:off x="6439680" y="2269800"/>
                <a:ext cx="56232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" descr=""/>
              <p:cNvPicPr/>
              <p:nvPr/>
            </p:nvPicPr>
            <p:blipFill>
              <a:blip r:embed="rId95"/>
              <a:stretch/>
            </p:blipFill>
            <p:spPr>
              <a:xfrm flipH="1">
                <a:off x="6933960" y="2873520"/>
                <a:ext cx="493920" cy="75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8" name="" descr=""/>
              <p:cNvPicPr/>
              <p:nvPr/>
            </p:nvPicPr>
            <p:blipFill>
              <a:blip r:embed="rId96"/>
              <a:stretch/>
            </p:blipFill>
            <p:spPr>
              <a:xfrm flipH="1">
                <a:off x="6915960" y="2269800"/>
                <a:ext cx="51192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" descr=""/>
              <p:cNvPicPr/>
              <p:nvPr/>
            </p:nvPicPr>
            <p:blipFill>
              <a:blip r:embed="rId97"/>
              <a:stretch/>
            </p:blipFill>
            <p:spPr>
              <a:xfrm flipH="1">
                <a:off x="7337880" y="2572560"/>
                <a:ext cx="513720" cy="75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" name="" descr=""/>
              <p:cNvPicPr/>
              <p:nvPr/>
            </p:nvPicPr>
            <p:blipFill>
              <a:blip r:embed="rId98"/>
              <a:stretch/>
            </p:blipFill>
            <p:spPr>
              <a:xfrm flipH="1">
                <a:off x="7619040" y="2873520"/>
                <a:ext cx="56196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1" name="" descr=""/>
              <p:cNvPicPr/>
              <p:nvPr/>
            </p:nvPicPr>
            <p:blipFill>
              <a:blip r:embed="rId99"/>
              <a:stretch/>
            </p:blipFill>
            <p:spPr>
              <a:xfrm flipH="1">
                <a:off x="6416640" y="2975400"/>
                <a:ext cx="493560" cy="75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2" name="" descr=""/>
              <p:cNvPicPr/>
              <p:nvPr/>
            </p:nvPicPr>
            <p:blipFill>
              <a:blip r:embed="rId100"/>
              <a:stretch/>
            </p:blipFill>
            <p:spPr>
              <a:xfrm flipH="1">
                <a:off x="6488280" y="3377880"/>
                <a:ext cx="493920" cy="75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3" name="" descr=""/>
              <p:cNvPicPr/>
              <p:nvPr/>
            </p:nvPicPr>
            <p:blipFill>
              <a:blip r:embed="rId101"/>
              <a:stretch/>
            </p:blipFill>
            <p:spPr>
              <a:xfrm flipH="1">
                <a:off x="7100280" y="3377880"/>
                <a:ext cx="703440" cy="75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4" name="" descr=""/>
              <p:cNvPicPr/>
              <p:nvPr/>
            </p:nvPicPr>
            <p:blipFill>
              <a:blip r:embed="rId102"/>
              <a:stretch/>
            </p:blipFill>
            <p:spPr>
              <a:xfrm flipH="1">
                <a:off x="7803360" y="3382920"/>
                <a:ext cx="705240" cy="74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" descr=""/>
              <p:cNvPicPr/>
              <p:nvPr/>
            </p:nvPicPr>
            <p:blipFill>
              <a:blip r:embed="rId103"/>
              <a:stretch/>
            </p:blipFill>
            <p:spPr>
              <a:xfrm flipH="1">
                <a:off x="7997040" y="2975400"/>
                <a:ext cx="511920" cy="75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6" name="" descr=""/>
              <p:cNvPicPr/>
              <p:nvPr/>
            </p:nvPicPr>
            <p:blipFill>
              <a:blip r:embed="rId104"/>
              <a:stretch/>
            </p:blipFill>
            <p:spPr>
              <a:xfrm flipH="1">
                <a:off x="7451280" y="3379680"/>
                <a:ext cx="493560" cy="753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67" name=""/>
          <p:cNvSpPr/>
          <p:nvPr/>
        </p:nvSpPr>
        <p:spPr>
          <a:xfrm>
            <a:off x="611280" y="765000"/>
            <a:ext cx="7920000" cy="3394080"/>
          </a:xfrm>
          <a:prstGeom prst="rect">
            <a:avLst/>
          </a:prstGeom>
          <a:noFill/>
          <a:ln w="127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154320" y="4292640"/>
            <a:ext cx="28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长方形花坛，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43560" y="4889520"/>
            <a:ext cx="10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）求这个花坛的占地面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8920" y="5464080"/>
            <a:ext cx="70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）在花坛的四周围一圈栏杆，求围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栏的长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11280" y="765000"/>
            <a:ext cx="7920000" cy="3394080"/>
          </a:xfrm>
          <a:prstGeom prst="rect">
            <a:avLst/>
          </a:prstGeom>
          <a:solidFill>
            <a:srgbClr val="99cc0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0"/>
            <a:ext cx="161928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智慧闯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0" dur="1" fill="hold">
                                    <p:stCondLst>
                                      <p:cond evt="end">
                                        <p:tn val="907"/>
                                      </p:cond>
                                    </p:stCondLst>
                                  </p:cTn>
                                  <p:tgtEl>
                                    <p:spTgt spid="4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7928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68360" y="1844640"/>
            <a:ext cx="3600360" cy="36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429080" y="1862280"/>
            <a:ext cx="45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698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个正方形手帕的周长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厘米，它的面积是多少平方厘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7380360" y="4221000"/>
            <a:ext cx="1341360" cy="22323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0" y="0"/>
            <a:ext cx="161928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智慧闯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79280" y="692280"/>
            <a:ext cx="8748720" cy="59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63640" y="1634760"/>
            <a:ext cx="79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一个长方形和一个正方形周长相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208080" y="4581360"/>
            <a:ext cx="1771560" cy="19432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81" name=""/>
          <p:cNvSpPr/>
          <p:nvPr/>
        </p:nvSpPr>
        <p:spPr>
          <a:xfrm>
            <a:off x="826920" y="2709720"/>
            <a:ext cx="3889440" cy="1727280"/>
          </a:xfrm>
          <a:prstGeom prst="cloudCallout">
            <a:avLst>
              <a:gd name="adj1" fmla="val 9305"/>
              <a:gd name="adj2" fmla="val 116268"/>
            </a:avLst>
          </a:prstGeom>
          <a:solidFill>
            <a:srgbClr val="d6f1c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它们的面积也相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2484360" y="5019840"/>
            <a:ext cx="1400400" cy="1504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4572000" y="4438800"/>
            <a:ext cx="3529080" cy="1726920"/>
          </a:xfrm>
          <a:prstGeom prst="cloudCallout">
            <a:avLst>
              <a:gd name="adj1" fmla="val 47074"/>
              <a:gd name="adj2" fmla="val -83731"/>
            </a:avLst>
          </a:prstGeom>
          <a:solidFill>
            <a:srgbClr val="d6f1c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正方形的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面积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7451640" y="2924280"/>
            <a:ext cx="1505160" cy="14954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82944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你同意谁的观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 rot="5400000">
            <a:off x="354960" y="5413320"/>
            <a:ext cx="1400400" cy="45720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华文新魏"/>
              </a:rPr>
              <a:t>冒险岛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华文新魏"/>
              <a:ea typeface="华文新魏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0"/>
            <a:ext cx="161928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动脑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610920" y="1413000"/>
            <a:ext cx="77058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能说说长方形和正方形的面积怎样计算吗？它与我们学过的周长有什么不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161928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同桌互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0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05040" y="5805360"/>
            <a:ext cx="714240" cy="71928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-29880" y="1523520"/>
            <a:ext cx="1580760" cy="588240"/>
            <a:chOff x="-29880" y="1523520"/>
            <a:chExt cx="1580760" cy="588240"/>
          </a:xfrm>
        </p:grpSpPr>
        <p:sp>
          <p:nvSpPr>
            <p:cNvPr id="46" name=""/>
            <p:cNvSpPr/>
            <p:nvPr/>
          </p:nvSpPr>
          <p:spPr>
            <a:xfrm>
              <a:off x="-29880" y="1590840"/>
              <a:ext cx="1580760" cy="504720"/>
            </a:xfrm>
            <a:custGeom>
              <a:avLst/>
              <a:gdLst/>
              <a:ahLst/>
              <a:rect l="l" t="t" r="r" b="b"/>
              <a:pathLst>
                <a:path w="953" h="318">
                  <a:moveTo>
                    <a:pt x="0" y="318"/>
                  </a:moveTo>
                  <a:lnTo>
                    <a:pt x="953" y="318"/>
                  </a:lnTo>
                  <a:lnTo>
                    <a:pt x="953" y="91"/>
                  </a:lnTo>
                  <a:lnTo>
                    <a:pt x="0" y="0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29200">
              <a:off x="211320" y="15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好好学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19280" y="3279600"/>
            <a:ext cx="1562040" cy="1733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-36360" y="115920"/>
            <a:ext cx="9145440" cy="5905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763640" y="2637000"/>
            <a:ext cx="1152720" cy="152208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5292720" y="1989000"/>
            <a:ext cx="2663640" cy="1295640"/>
            <a:chOff x="5292720" y="1989000"/>
            <a:chExt cx="2663640" cy="1295640"/>
          </a:xfrm>
        </p:grpSpPr>
        <p:sp>
          <p:nvSpPr>
            <p:cNvPr id="52" name=""/>
            <p:cNvSpPr/>
            <p:nvPr/>
          </p:nvSpPr>
          <p:spPr>
            <a:xfrm>
              <a:off x="5292720" y="1989000"/>
              <a:ext cx="266364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67960" y="1989000"/>
              <a:ext cx="148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学习园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3600" y="2565360"/>
              <a:ext cx="182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73600" y="2781360"/>
              <a:ext cx="182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73600" y="2997360"/>
              <a:ext cx="182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067280" y="3716280"/>
            <a:ext cx="5029200" cy="1457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132000" y="3141720"/>
            <a:ext cx="1602000" cy="2440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3708360" y="5219640"/>
            <a:ext cx="5286240" cy="1305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258920" y="4383000"/>
            <a:ext cx="1657440" cy="2286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58920" y="4653000"/>
            <a:ext cx="3744720" cy="1944720"/>
          </a:xfrm>
          <a:prstGeom prst="cloudCallout">
            <a:avLst>
              <a:gd name="adj1" fmla="val 15495"/>
              <a:gd name="adj2" fmla="val -8338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怎样求出它们的面积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61928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38800" y="836640"/>
            <a:ext cx="3805200" cy="6426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楷体_GB2312"/>
              </a:rPr>
              <a:t>摆一摆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楷体_GB2312"/>
              </a:rPr>
              <a:t>填一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4400" y="1628640"/>
            <a:ext cx="647640" cy="64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7400" y="1700280"/>
            <a:ext cx="16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平方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48400" y="1628640"/>
            <a:ext cx="144360" cy="649440"/>
          </a:xfrm>
          <a:custGeom>
            <a:avLst/>
            <a:gdLst>
              <a:gd name="textAreaLeft" fmla="*/ 92160 w 144360"/>
              <a:gd name="textAreaRight" fmla="*/ 144360 w 14436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741920" y="175572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655560"/>
            <a:ext cx="672840" cy="673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55760" y="655560"/>
            <a:ext cx="673200" cy="673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27160" y="655560"/>
            <a:ext cx="673200" cy="673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2997360"/>
            <a:ext cx="685800" cy="717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97080" y="2997360"/>
            <a:ext cx="684000" cy="717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2997360"/>
            <a:ext cx="684360" cy="717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4000" y="2997360"/>
            <a:ext cx="685800" cy="717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3720960"/>
            <a:ext cx="685800" cy="6447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97080" y="3720960"/>
            <a:ext cx="684000" cy="6447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3720960"/>
            <a:ext cx="684360" cy="6447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64000" y="3720960"/>
            <a:ext cx="685800" cy="6447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557360"/>
            <a:ext cx="672840" cy="636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57200" y="1557360"/>
            <a:ext cx="673200" cy="636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27160" y="1557360"/>
            <a:ext cx="673200" cy="636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2157480"/>
            <a:ext cx="672840" cy="6350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57200" y="2157480"/>
            <a:ext cx="673200" cy="6350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27160" y="2157480"/>
            <a:ext cx="673200" cy="6350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4579920"/>
            <a:ext cx="684000" cy="6494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4579920"/>
            <a:ext cx="685800" cy="6494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78200" y="4579920"/>
            <a:ext cx="685800" cy="6494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64000" y="4579920"/>
            <a:ext cx="684000" cy="6494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5229360"/>
            <a:ext cx="684000" cy="64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5229360"/>
            <a:ext cx="685800" cy="64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8200" y="5229360"/>
            <a:ext cx="685800" cy="64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4000" y="5229360"/>
            <a:ext cx="684000" cy="64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875200"/>
            <a:ext cx="684000" cy="6494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5875200"/>
            <a:ext cx="685800" cy="6494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8200" y="5875200"/>
            <a:ext cx="685800" cy="6494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64000" y="5875200"/>
            <a:ext cx="684000" cy="6494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564000" y="2492280"/>
          <a:ext cx="5122800" cy="3899160"/>
        </p:xfrm>
        <a:graphic>
          <a:graphicData uri="http://schemas.openxmlformats.org/drawingml/2006/table">
            <a:tbl>
              <a:tblPr/>
              <a:tblGrid>
                <a:gridCol w="1708200"/>
                <a:gridCol w="1706400"/>
                <a:gridCol w="170820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排小正方形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厘米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摆了几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厘米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036680" y="38908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  <a:ea typeface="楷体_GB2312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30560" y="38908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  <a:ea typeface="楷体_GB2312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9640" y="38606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  <a:ea typeface="楷体_GB2312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6680" y="45086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  <a:ea typeface="楷体_GB2312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59280" y="45086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  <a:ea typeface="楷体_GB2312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92680" y="45086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  <a:ea typeface="楷体_GB2312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36680" y="51148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  <a:ea typeface="楷体_GB2312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59280" y="51148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  <a:ea typeface="楷体_GB2312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92680" y="51148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  <a:ea typeface="楷体_GB2312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0560" y="57340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  <a:ea typeface="楷体_GB2312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52800" y="57340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  <a:ea typeface="楷体_GB2312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27080" y="57340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Monotype Corsiva"/>
                <a:ea typeface="楷体_GB2312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38560" y="2678040"/>
            <a:ext cx="515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57920" y="2708280"/>
            <a:ext cx="515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11280" y="1341360"/>
            <a:ext cx="2736720" cy="5183280"/>
            <a:chOff x="611280" y="1341360"/>
            <a:chExt cx="2736720" cy="5183280"/>
          </a:xfrm>
        </p:grpSpPr>
        <p:sp>
          <p:nvSpPr>
            <p:cNvPr id="114" name=""/>
            <p:cNvSpPr/>
            <p:nvPr/>
          </p:nvSpPr>
          <p:spPr>
            <a:xfrm>
              <a:off x="684360" y="1341360"/>
              <a:ext cx="20160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2781360"/>
              <a:ext cx="20160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1280" y="4365720"/>
              <a:ext cx="27367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1280" y="6524640"/>
              <a:ext cx="27367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700360" y="620640"/>
            <a:ext cx="647640" cy="5904000"/>
            <a:chOff x="2700360" y="620640"/>
            <a:chExt cx="647640" cy="5904000"/>
          </a:xfrm>
        </p:grpSpPr>
        <p:sp>
          <p:nvSpPr>
            <p:cNvPr id="119" name=""/>
            <p:cNvSpPr/>
            <p:nvPr/>
          </p:nvSpPr>
          <p:spPr>
            <a:xfrm flipV="1">
              <a:off x="2700360" y="620640"/>
              <a:ext cx="0" cy="7207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700360" y="1557360"/>
              <a:ext cx="0" cy="1224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348000" y="2997000"/>
              <a:ext cx="0" cy="1368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348000" y="4581360"/>
              <a:ext cx="0" cy="194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0" y="0"/>
            <a:ext cx="161928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动手操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50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1052640"/>
            <a:ext cx="4895640" cy="46814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2090880"/>
            <a:ext cx="685800" cy="717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720" y="2090880"/>
            <a:ext cx="684000" cy="717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2090880"/>
            <a:ext cx="684360" cy="717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03640" y="2090880"/>
            <a:ext cx="685800" cy="717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50920" y="2784600"/>
            <a:ext cx="2738520" cy="644400"/>
            <a:chOff x="250920" y="2784600"/>
            <a:chExt cx="2738520" cy="644400"/>
          </a:xfrm>
        </p:grpSpPr>
        <p:sp>
          <p:nvSpPr>
            <p:cNvPr id="131" name=""/>
            <p:cNvSpPr/>
            <p:nvPr/>
          </p:nvSpPr>
          <p:spPr>
            <a:xfrm>
              <a:off x="250920" y="2784600"/>
              <a:ext cx="68580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36720" y="2784600"/>
              <a:ext cx="68436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19280" y="2784600"/>
              <a:ext cx="68436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03640" y="2784600"/>
              <a:ext cx="68580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V="1" rot="5400000">
            <a:off x="1522440" y="588960"/>
            <a:ext cx="216000" cy="27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36360" y="1341360"/>
            <a:ext cx="35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排小正方形个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98920" y="21319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排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0800000">
            <a:off x="2998440" y="2090880"/>
            <a:ext cx="204840" cy="690480"/>
          </a:xfrm>
          <a:custGeom>
            <a:avLst/>
            <a:gdLst>
              <a:gd name="textAreaLeft" fmla="*/ 131040 w 204840"/>
              <a:gd name="textAreaRight" fmla="*/ 205200 w 20484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05200" y="1886040"/>
            <a:ext cx="112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01200" y="18446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Rounded MT Bold"/>
                <a:ea typeface="楷体_GB2312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56640" y="18446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Arial Rounded MT Bold"/>
                <a:ea typeface="楷体_GB2312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10960" y="19350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0420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5040" y="18446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Arial Rounded MT Bold"/>
                <a:ea typeface="楷体_GB2312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0360" y="2421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排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2987640" y="2061720"/>
            <a:ext cx="216000" cy="1366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50920" y="3429000"/>
            <a:ext cx="2738520" cy="644400"/>
            <a:chOff x="250920" y="3429000"/>
            <a:chExt cx="2738520" cy="644400"/>
          </a:xfrm>
        </p:grpSpPr>
        <p:sp>
          <p:nvSpPr>
            <p:cNvPr id="148" name=""/>
            <p:cNvSpPr/>
            <p:nvPr/>
          </p:nvSpPr>
          <p:spPr>
            <a:xfrm>
              <a:off x="250920" y="3429000"/>
              <a:ext cx="68580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36720" y="3429000"/>
              <a:ext cx="68436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9280" y="3429000"/>
              <a:ext cx="68436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3640" y="3429000"/>
              <a:ext cx="68580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698920" y="27781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排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0800000">
            <a:off x="2987640" y="20606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88320" y="18842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 Rounded MT Bold"/>
                <a:ea typeface="楷体_GB2312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56640" y="18842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 Rounded MT Bold"/>
                <a:ea typeface="楷体_GB2312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617840" y="4437000"/>
            <a:ext cx="1440" cy="11527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32080" y="907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67080" y="2421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01560" y="193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79320" y="1916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15160" y="3486240"/>
            <a:ext cx="315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长方形面积＝长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×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925040" y="18446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Arial Rounded MT Bold"/>
                <a:ea typeface="楷体_GB2312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56640" y="18446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Arial Rounded MT Bold"/>
                <a:ea typeface="楷体_GB2312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27640" y="1844640"/>
            <a:ext cx="4392360" cy="108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161928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归纳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00960" y="1432080"/>
            <a:ext cx="35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长方形面积＝ 长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×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51480" y="4221000"/>
            <a:ext cx="1857240" cy="1872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74960" y="2765520"/>
            <a:ext cx="40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华文新魏"/>
              </a:rPr>
              <a:t>正方形面积＝   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华文新魏"/>
              </a:rPr>
              <a:t>×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35640" y="6093000"/>
            <a:ext cx="1873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08720" y="4221000"/>
            <a:ext cx="0" cy="1873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0360" y="1773360"/>
            <a:ext cx="2879640" cy="2016000"/>
          </a:xfrm>
          <a:prstGeom prst="cloudCallout">
            <a:avLst>
              <a:gd name="adj1" fmla="val 30981"/>
              <a:gd name="adj2" fmla="val 75199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正方形是特殊的长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3000" y="4076640"/>
            <a:ext cx="1702080" cy="2592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402000" y="2787480"/>
            <a:ext cx="117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边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24360" y="2060640"/>
            <a:ext cx="0" cy="72072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27874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边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92720" y="2060640"/>
            <a:ext cx="0" cy="72072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161928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归纳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0544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-29880" y="1523520"/>
            <a:ext cx="1580760" cy="588240"/>
            <a:chOff x="-29880" y="1523520"/>
            <a:chExt cx="1580760" cy="588240"/>
          </a:xfrm>
        </p:grpSpPr>
        <p:sp>
          <p:nvSpPr>
            <p:cNvPr id="180" name=""/>
            <p:cNvSpPr/>
            <p:nvPr/>
          </p:nvSpPr>
          <p:spPr>
            <a:xfrm>
              <a:off x="-29880" y="1590840"/>
              <a:ext cx="1580760" cy="504720"/>
            </a:xfrm>
            <a:custGeom>
              <a:avLst/>
              <a:gdLst/>
              <a:ahLst/>
              <a:rect l="l" t="t" r="r" b="b"/>
              <a:pathLst>
                <a:path w="953" h="318">
                  <a:moveTo>
                    <a:pt x="0" y="318"/>
                  </a:moveTo>
                  <a:lnTo>
                    <a:pt x="953" y="318"/>
                  </a:lnTo>
                  <a:lnTo>
                    <a:pt x="953" y="91"/>
                  </a:lnTo>
                  <a:lnTo>
                    <a:pt x="0" y="0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29200">
              <a:off x="211320" y="15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好好学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619280" y="3279600"/>
            <a:ext cx="1562040" cy="17337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-36360" y="619200"/>
            <a:ext cx="9145440" cy="5905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763640" y="2637000"/>
            <a:ext cx="1152720" cy="1522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5076720" y="1773360"/>
            <a:ext cx="2519280" cy="1295280"/>
            <a:chOff x="5076720" y="1773360"/>
            <a:chExt cx="2519280" cy="1295280"/>
          </a:xfrm>
        </p:grpSpPr>
        <p:sp>
          <p:nvSpPr>
            <p:cNvPr id="186" name=""/>
            <p:cNvSpPr/>
            <p:nvPr/>
          </p:nvSpPr>
          <p:spPr>
            <a:xfrm>
              <a:off x="5076720" y="1773360"/>
              <a:ext cx="251928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5320" y="1773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学习园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37080" y="234936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37080" y="256536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37080" y="278136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492360" y="3429000"/>
            <a:ext cx="5324760" cy="3114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1280" y="260280"/>
            <a:ext cx="9072720" cy="6121440"/>
          </a:xfrm>
          <a:prstGeom prst="cloudCallout">
            <a:avLst>
              <a:gd name="adj1" fmla="val -33763"/>
              <a:gd name="adj2" fmla="val 36564"/>
            </a:avLst>
          </a:prstGeom>
          <a:solidFill>
            <a:srgbClr val="ffffff">
              <a:alpha val="8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 rot="186600">
            <a:off x="604440" y="4449600"/>
            <a:ext cx="2095560" cy="22194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500120" y="1082520"/>
            <a:ext cx="68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讲桌面是一个长方形，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分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分米。要配上同样大小的玻璃，这块玻璃的面积应该是多少平方分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99160" y="2922480"/>
            <a:ext cx="32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长方形面积＝ 长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×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53680" y="3911760"/>
            <a:ext cx="4460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14×9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126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平方分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答：这块玻璃面积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平方分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161928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实际操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0" dur="500" autoRev="1" fill="hold"/>
                                        <p:tgtEl>
                                          <p:spTgt spid="1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0544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-29880" y="1523520"/>
            <a:ext cx="1580760" cy="588240"/>
            <a:chOff x="-29880" y="1523520"/>
            <a:chExt cx="1580760" cy="588240"/>
          </a:xfrm>
        </p:grpSpPr>
        <p:sp>
          <p:nvSpPr>
            <p:cNvPr id="200" name=""/>
            <p:cNvSpPr/>
            <p:nvPr/>
          </p:nvSpPr>
          <p:spPr>
            <a:xfrm>
              <a:off x="-29880" y="1590840"/>
              <a:ext cx="1580760" cy="504720"/>
            </a:xfrm>
            <a:custGeom>
              <a:avLst/>
              <a:gdLst/>
              <a:ahLst/>
              <a:rect l="l" t="t" r="r" b="b"/>
              <a:pathLst>
                <a:path w="953" h="318">
                  <a:moveTo>
                    <a:pt x="0" y="318"/>
                  </a:moveTo>
                  <a:lnTo>
                    <a:pt x="953" y="318"/>
                  </a:lnTo>
                  <a:lnTo>
                    <a:pt x="953" y="91"/>
                  </a:lnTo>
                  <a:lnTo>
                    <a:pt x="0" y="0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229200">
              <a:off x="211320" y="15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好好学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619280" y="3279600"/>
            <a:ext cx="1562040" cy="17337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-36360" y="619200"/>
            <a:ext cx="9145440" cy="5905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1763640" y="2637000"/>
            <a:ext cx="1152720" cy="152208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5076720" y="1773360"/>
            <a:ext cx="2519280" cy="1295280"/>
            <a:chOff x="5076720" y="1773360"/>
            <a:chExt cx="2519280" cy="1295280"/>
          </a:xfrm>
        </p:grpSpPr>
        <p:sp>
          <p:nvSpPr>
            <p:cNvPr id="206" name=""/>
            <p:cNvSpPr/>
            <p:nvPr/>
          </p:nvSpPr>
          <p:spPr>
            <a:xfrm>
              <a:off x="5076720" y="1773360"/>
              <a:ext cx="251928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95320" y="1773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学习园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37080" y="234936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37080" y="256536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37080" y="278136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3492360" y="3429000"/>
            <a:ext cx="5324760" cy="3114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 rot="186600">
            <a:off x="604440" y="4449600"/>
            <a:ext cx="2095560" cy="22194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280" y="260280"/>
            <a:ext cx="9072720" cy="6121440"/>
          </a:xfrm>
          <a:prstGeom prst="cloudCallout">
            <a:avLst>
              <a:gd name="adj1" fmla="val -41949"/>
              <a:gd name="adj2" fmla="val 42481"/>
            </a:avLst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0" y="4417920"/>
            <a:ext cx="1601640" cy="2440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2268360" y="1341360"/>
            <a:ext cx="4896000" cy="3090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3564000" y="1700280"/>
            <a:ext cx="2197080" cy="251928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2484360" y="1628640"/>
            <a:ext cx="4679640" cy="2295360"/>
            <a:chOff x="2484360" y="1628640"/>
            <a:chExt cx="4679640" cy="2295360"/>
          </a:xfrm>
        </p:grpSpPr>
        <p:sp>
          <p:nvSpPr>
            <p:cNvPr id="218" name=""/>
            <p:cNvSpPr/>
            <p:nvPr/>
          </p:nvSpPr>
          <p:spPr>
            <a:xfrm>
              <a:off x="2484360" y="1628640"/>
              <a:ext cx="4679640" cy="229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65360" y="1628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学习园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53600" y="2649600"/>
              <a:ext cx="320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53600" y="3032280"/>
              <a:ext cx="320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53600" y="3414960"/>
              <a:ext cx="320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835280" y="447048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楷体_GB2312"/>
              </a:rPr>
              <a:t>量一量长和宽，再求出面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161928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试一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360" y="620640"/>
            <a:ext cx="8820360" cy="59040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851280" y="5516640"/>
            <a:ext cx="3529080" cy="1010160"/>
            <a:chOff x="3851280" y="5516640"/>
            <a:chExt cx="3529080" cy="1010160"/>
          </a:xfrm>
        </p:grpSpPr>
        <p:sp>
          <p:nvSpPr>
            <p:cNvPr id="227" name=""/>
            <p:cNvSpPr/>
            <p:nvPr/>
          </p:nvSpPr>
          <p:spPr>
            <a:xfrm>
              <a:off x="3851280" y="5516640"/>
              <a:ext cx="3313080" cy="1008000"/>
            </a:xfrm>
            <a:custGeom>
              <a:avLst/>
              <a:gdLst/>
              <a:ahLst/>
              <a:rect l="l" t="t" r="r" b="b"/>
              <a:pathLst>
                <a:path w="2087" h="635">
                  <a:moveTo>
                    <a:pt x="0" y="635"/>
                  </a:moveTo>
                  <a:lnTo>
                    <a:pt x="2087" y="635"/>
                  </a:lnTo>
                  <a:lnTo>
                    <a:pt x="1860" y="227"/>
                  </a:lnTo>
                  <a:lnTo>
                    <a:pt x="1044" y="0"/>
                  </a:lnTo>
                  <a:lnTo>
                    <a:pt x="273" y="227"/>
                  </a:lnTo>
                  <a:lnTo>
                    <a:pt x="0" y="6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11640" y="5762520"/>
              <a:ext cx="316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cc00"/>
                  </a:solidFill>
                  <a:latin typeface="Arial"/>
                  <a:ea typeface="华文新魏"/>
                </a:rPr>
                <a:t>我的收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164360" y="5013360"/>
            <a:ext cx="1504800" cy="14954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627280" y="2163600"/>
            <a:ext cx="685800" cy="717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13080" y="2163600"/>
            <a:ext cx="684360" cy="717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95640" y="2163600"/>
            <a:ext cx="684360" cy="717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80000" y="2163600"/>
            <a:ext cx="685800" cy="717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27280" y="2857680"/>
            <a:ext cx="2738160" cy="644400"/>
            <a:chOff x="2627280" y="2857680"/>
            <a:chExt cx="2738160" cy="644400"/>
          </a:xfrm>
        </p:grpSpPr>
        <p:sp>
          <p:nvSpPr>
            <p:cNvPr id="235" name=""/>
            <p:cNvSpPr/>
            <p:nvPr/>
          </p:nvSpPr>
          <p:spPr>
            <a:xfrm>
              <a:off x="2627280" y="2857680"/>
              <a:ext cx="68580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13080" y="2857680"/>
              <a:ext cx="68400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95640" y="2857680"/>
              <a:ext cx="68400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79640" y="2857680"/>
              <a:ext cx="685800" cy="64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340000" y="1414440"/>
            <a:ext cx="3529080" cy="723960"/>
            <a:chOff x="2340000" y="1414440"/>
            <a:chExt cx="3529080" cy="723960"/>
          </a:xfrm>
        </p:grpSpPr>
        <p:sp>
          <p:nvSpPr>
            <p:cNvPr id="240" name=""/>
            <p:cNvSpPr/>
            <p:nvPr/>
          </p:nvSpPr>
          <p:spPr>
            <a:xfrm flipV="1" rot="5400000">
              <a:off x="3898800" y="661680"/>
              <a:ext cx="216000" cy="27370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71280 h 2737080"/>
                <a:gd name="textAreaBottom" fmla="*/ 2665800 h 273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40000" y="1414440"/>
              <a:ext cx="352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"/>
                  <a:ea typeface="楷体_GB2312"/>
                </a:rPr>
                <a:t>每排小正方形个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808440" y="981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07160" y="2139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140440" y="2134800"/>
            <a:ext cx="1871640" cy="1366920"/>
            <a:chOff x="5140440" y="2134800"/>
            <a:chExt cx="1871640" cy="1366920"/>
          </a:xfrm>
        </p:grpSpPr>
        <p:sp>
          <p:nvSpPr>
            <p:cNvPr id="245" name=""/>
            <p:cNvSpPr/>
            <p:nvPr/>
          </p:nvSpPr>
          <p:spPr>
            <a:xfrm rot="10800000">
              <a:off x="5364360" y="2134800"/>
              <a:ext cx="216000" cy="13669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35640 h 1366920"/>
                <a:gd name="textAreaBottom" fmla="*/ 1331280 h 13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40440" y="256212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"/>
                  <a:ea typeface="楷体_GB2312"/>
                </a:rPr>
                <a:t>排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323440" y="3951360"/>
            <a:ext cx="35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长方形面积＝ 长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×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232360" y="4724280"/>
            <a:ext cx="4731120" cy="703440"/>
            <a:chOff x="2232360" y="4724280"/>
            <a:chExt cx="4731120" cy="703440"/>
          </a:xfrm>
        </p:grpSpPr>
        <p:sp>
          <p:nvSpPr>
            <p:cNvPr id="249" name=""/>
            <p:cNvSpPr/>
            <p:nvPr/>
          </p:nvSpPr>
          <p:spPr>
            <a:xfrm>
              <a:off x="2232360" y="4724280"/>
              <a:ext cx="4072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Arial"/>
                  <a:ea typeface="华文新魏"/>
                </a:rPr>
                <a:t>正方形面积＝      </a:t>
              </a:r>
              <a:r>
                <a:rPr b="1" lang="zh-CN" sz="4000" spc="-1" strike="noStrike">
                  <a:solidFill>
                    <a:srgbClr val="ffff00"/>
                  </a:solidFill>
                  <a:latin typeface="Arial"/>
                  <a:ea typeface="华文新魏"/>
                </a:rPr>
                <a:t>×  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10680" y="47462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Arial"/>
                  <a:ea typeface="楷体_GB2312"/>
                </a:rPr>
                <a:t>边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34120" y="47462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Arial"/>
                  <a:ea typeface="楷体_GB2312"/>
                </a:rPr>
                <a:t>边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0" y="0"/>
            <a:ext cx="161928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畅谈收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9101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4427640" y="62064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 rot="19694400">
            <a:off x="2987640" y="1051920"/>
            <a:ext cx="144360" cy="2447640"/>
          </a:xfrm>
          <a:custGeom>
            <a:avLst/>
            <a:gdLst>
              <a:gd name="textAreaLeft" fmla="*/ 51840 w 144360"/>
              <a:gd name="textAreaRight" fmla="*/ 92520 w 144360"/>
              <a:gd name="textAreaTop" fmla="*/ 878040 h 2447640"/>
              <a:gd name="textAreaBottom" fmla="*/ 156960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 rot="18542400">
            <a:off x="2053080" y="1914480"/>
            <a:ext cx="144360" cy="244836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360"/>
              <a:gd name="textAreaBottom" fmla="*/ 1569960 h 24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 rot="17506200">
            <a:off x="1474920" y="3068640"/>
            <a:ext cx="144720" cy="2447640"/>
          </a:xfrm>
          <a:custGeom>
            <a:avLst/>
            <a:gdLst>
              <a:gd name="textAreaLeft" fmla="*/ 51840 w 144720"/>
              <a:gd name="textAreaRight" fmla="*/ 92880 w 144720"/>
              <a:gd name="textAreaTop" fmla="*/ 878040 h 2447640"/>
              <a:gd name="textAreaBottom" fmla="*/ 156960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 rot="16534800">
            <a:off x="1259640" y="422172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5372280" cy="2503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2627280" y="2349360"/>
            <a:ext cx="4032360" cy="3353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1" name=""/>
          <p:cNvSpPr/>
          <p:nvPr/>
        </p:nvSpPr>
        <p:spPr>
          <a:xfrm flipH="1" flipV="1" rot="1905600">
            <a:off x="5868000" y="105192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 rot="3057600">
            <a:off x="6803280" y="1917360"/>
            <a:ext cx="144360" cy="244836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360"/>
              <a:gd name="textAreaBottom" fmla="*/ 1569960 h 24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flipV="1" rot="4093800">
            <a:off x="7381080" y="3068280"/>
            <a:ext cx="144720" cy="2448000"/>
          </a:xfrm>
          <a:custGeom>
            <a:avLst/>
            <a:gdLst>
              <a:gd name="textAreaLeft" fmla="*/ 51840 w 144720"/>
              <a:gd name="textAreaRight" fmla="*/ 92880 w 14472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 rot="5065200">
            <a:off x="7596000" y="4221720"/>
            <a:ext cx="144360" cy="2448000"/>
          </a:xfrm>
          <a:custGeom>
            <a:avLst/>
            <a:gdLst>
              <a:gd name="textAreaLeft" fmla="*/ 51840 w 144360"/>
              <a:gd name="textAreaRight" fmla="*/ 92520 w 144360"/>
              <a:gd name="textAreaTop" fmla="*/ 878400 h 2448000"/>
              <a:gd name="textAreaBottom" fmla="*/ 1569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7" dur="250" autoRev="1" fill="hold"/>
                                        <p:tgtEl>
                                          <p:spTgt spid="2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8" dur="250" autoRev="1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09" dur="250" autoRev="1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0" dur="250" autoRev="1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250" autoRev="1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3" dur="250" autoRev="1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4" dur="250" autoRev="1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6" dur="250" autoRev="1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7" dur="250" autoRev="1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8" dur="250" autoRev="1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0" dur="250" autoRev="1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21" dur="250" autoRev="1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2" dur="250" autoRev="1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4" dur="250" autoRev="1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25" dur="250" autoRev="1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6" dur="250" autoRev="1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8" dur="25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29" dur="25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0" dur="250" autoRev="1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2" dur="250" autoRev="1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3" dur="250" autoRev="1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4" dur="250" autoRev="1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25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7" dur="25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8" dur="25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0" dur="250" autoRev="1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41" dur="250" autoRev="1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2" dur="250" autoRev="1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绿色圃中小学教育网http://www.lspjy.com</dc:creator>
  <dc:description/>
  <cp:keywords>绿色圃中小学教育网http://www.lspjy.com</cp:keywords>
  <dc:language>en-US</dc:language>
  <cp:lastModifiedBy>微软用户</cp:lastModifiedBy>
  <dcterms:modified xsi:type="dcterms:W3CDTF">2013-12-13T03:42:08Z</dcterms:modified>
  <cp:revision>1466</cp:revision>
  <dc:subject/>
  <dc:title>绿色圃中小学教育网http://www.lspjy.com</dc:title>
</cp:coreProperties>
</file>