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%E7%A0%B8%E9%87%91%E8%9B%8B%E7%9A%84%E5%A3%B0%E9%9F%B3.wav" ContentType="audio/x-wav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25.png" ContentType="image/png"/>
  <Override PartName="/ppt/media/image4.jpeg" ContentType="image/jpeg"/>
  <Override PartName="/ppt/media/image8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3.jpeg" ContentType="image/jpeg"/>
  <Override PartName="/ppt/media/arrow.wav" ContentType="audio/x-wav"/>
  <Override PartName="/ppt/media/image28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2.png" ContentType="image/png"/>
  <Override PartName="/ppt/media/image23.jpeg" ContentType="image/jpeg"/>
  <Override PartName="/ppt/media/image14.gif" ContentType="image/gif"/>
  <Override PartName="/ppt/media/image17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AD3-63C5-4ECF-BD46-8E302B58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0FCA-51E7-4F70-B0D4-A66A7611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728-34A9-4B91-B062-45E00C12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D2C7-B523-4C3A-BC38-BFE13AC5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87B-F89B-4E1F-8F86-DB890426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452-8760-4108-8532-7A16F5A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666-365B-4CAE-8F29-2849C5B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825-F2D5-4A3B-AD1B-7803B53A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D68-6675-4BBD-999A-D09F7ABF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F07-17AF-440D-980F-ACA4220A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CEB-5278-481F-8877-0017FA4A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41A-8612-4B99-A120-0BC8E253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39EE-E225-47B6-9DD4-4F80B7FE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png"/><Relationship Id="rId10" Type="http://schemas.openxmlformats.org/officeDocument/2006/relationships/image" Target="../media/image2.jpeg"/><Relationship Id="rId11" Type="http://schemas.openxmlformats.org/officeDocument/2006/relationships/audio" Target="../media/&#30776;&#37329;&#34507;&#30340;&#22768;&#38899;.wav"/><Relationship Id="rId12" Type="http://schemas.openxmlformats.org/officeDocument/2006/relationships/audio" Target="../media/&#30776;&#37329;&#34507;&#30340;&#22768;&#38899;.wav"/><Relationship Id="rId13" Type="http://schemas.openxmlformats.org/officeDocument/2006/relationships/audio" Target="../media/&#30776;&#37329;&#34507;&#30340;&#22768;&#38899;.wav"/><Relationship Id="rId14" Type="http://schemas.openxmlformats.org/officeDocument/2006/relationships/audio" Target="../media/&#30776;&#37329;&#34507;&#30340;&#22768;&#38899;.wav"/><Relationship Id="rId15" Type="http://schemas.openxmlformats.org/officeDocument/2006/relationships/audio" Target="../media/&#30776;&#37329;&#34507;&#30340;&#22768;&#38899;.wav"/><Relationship Id="rId16" Type="http://schemas.openxmlformats.org/officeDocument/2006/relationships/audio" Target="../media/&#30776;&#37329;&#34507;&#30340;&#22768;&#38899;.wav"/><Relationship Id="rId17" Type="http://schemas.openxmlformats.org/officeDocument/2006/relationships/audio" Target="../media/&#30776;&#37329;&#34507;&#30340;&#22768;&#38899;.wav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4.gif"/><Relationship Id="rId7" Type="http://schemas.openxmlformats.org/officeDocument/2006/relationships/image" Target="../media/image2.jpeg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audio" Target="../media/arrow.wav"/><Relationship Id="rId14" Type="http://schemas.openxmlformats.org/officeDocument/2006/relationships/audio" Target="../media/arrow.wav"/><Relationship Id="rId15" Type="http://schemas.openxmlformats.org/officeDocument/2006/relationships/audio" Target="../media/arrow.wav"/><Relationship Id="rId16" Type="http://schemas.openxmlformats.org/officeDocument/2006/relationships/audio" Target="../media/arrow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95250131994918"/>
          <p:cNvPicPr/>
          <p:nvPr/>
        </p:nvPicPr>
        <p:blipFill>
          <a:blip r:embed="rId1"/>
          <a:stretch/>
        </p:blipFill>
        <p:spPr>
          <a:xfrm>
            <a:off x="-31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755640" y="1554120"/>
            <a:ext cx="777708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692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Unit8 Shopping for clothe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484360" y="2568600"/>
            <a:ext cx="42483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Talk about it 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85840" y="428760"/>
            <a:ext cx="38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SUPER KIDS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2" descr="d:\360\360se6\USERDA~1\Temp\head.jpg"/>
          <p:cNvPicPr/>
          <p:nvPr/>
        </p:nvPicPr>
        <p:blipFill>
          <a:blip r:embed="rId2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d:\360\360se6\USERDA~1\Temp\M_14_6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AVSEQ01_clip.wmv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82864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3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aww-rats-its-too-tight-try-this-one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4920" y="189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 rats!  It’s too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65964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Try this 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" descr="d:\360\360se6\USERDA~1\Temp\602104~1.JPG"/>
          <p:cNvPicPr/>
          <p:nvPr/>
        </p:nvPicPr>
        <p:blipFill>
          <a:blip r:embed="rId1"/>
          <a:stretch/>
        </p:blipFill>
        <p:spPr>
          <a:xfrm>
            <a:off x="0" y="-25560"/>
            <a:ext cx="9142560" cy="6882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900000" y="260280"/>
            <a:ext cx="727092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Arial"/>
              </a:rPr>
              <a:t>Pair work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Aw rats! It’s too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                </a:t>
            </a:r>
            <a:r>
              <a:rPr b="1" lang="zh-CN" sz="18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B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Try this o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012000" y="12733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931000" y="126828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loos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931000" y="131436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shor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5981400" y="1282680"/>
            <a:ext cx="127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tigh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942160" y="2205000"/>
            <a:ext cx="1366560" cy="345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tigh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loos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2" descr="d:\360\360se6\USERDA~1\Temp\head.jpg"/>
          <p:cNvPicPr/>
          <p:nvPr/>
        </p:nvPicPr>
        <p:blipFill>
          <a:blip r:embed="rId2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金蛋1"/>
          <p:cNvPicPr/>
          <p:nvPr/>
        </p:nvPicPr>
        <p:blipFill>
          <a:blip r:embed="rId1"/>
          <a:stretch/>
        </p:blipFill>
        <p:spPr>
          <a:xfrm>
            <a:off x="755640" y="2575080"/>
            <a:ext cx="1362240" cy="1790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金蛋2"/>
          <p:cNvPicPr/>
          <p:nvPr/>
        </p:nvPicPr>
        <p:blipFill>
          <a:blip r:embed="rId2"/>
          <a:stretch/>
        </p:blipFill>
        <p:spPr>
          <a:xfrm>
            <a:off x="2057400" y="4446720"/>
            <a:ext cx="1362240" cy="1790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金蛋3"/>
          <p:cNvPicPr/>
          <p:nvPr/>
        </p:nvPicPr>
        <p:blipFill>
          <a:blip r:embed="rId3"/>
          <a:stretch/>
        </p:blipFill>
        <p:spPr>
          <a:xfrm>
            <a:off x="4716360" y="4940280"/>
            <a:ext cx="1362240" cy="179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金蛋4"/>
          <p:cNvPicPr/>
          <p:nvPr/>
        </p:nvPicPr>
        <p:blipFill>
          <a:blip r:embed="rId4"/>
          <a:stretch/>
        </p:blipFill>
        <p:spPr>
          <a:xfrm>
            <a:off x="6877080" y="3860640"/>
            <a:ext cx="1361880" cy="1791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金蛋5"/>
          <p:cNvPicPr/>
          <p:nvPr/>
        </p:nvPicPr>
        <p:blipFill>
          <a:blip r:embed="rId5"/>
          <a:stretch/>
        </p:blipFill>
        <p:spPr>
          <a:xfrm>
            <a:off x="7236000" y="1339920"/>
            <a:ext cx="1361880" cy="179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金蛋6"/>
          <p:cNvPicPr/>
          <p:nvPr/>
        </p:nvPicPr>
        <p:blipFill>
          <a:blip r:embed="rId6"/>
          <a:stretch/>
        </p:blipFill>
        <p:spPr>
          <a:xfrm>
            <a:off x="5003640" y="117360"/>
            <a:ext cx="1362240" cy="17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金蛋7"/>
          <p:cNvPicPr/>
          <p:nvPr/>
        </p:nvPicPr>
        <p:blipFill>
          <a:blip r:embed="rId7"/>
          <a:stretch/>
        </p:blipFill>
        <p:spPr>
          <a:xfrm>
            <a:off x="2340000" y="333360"/>
            <a:ext cx="1361880" cy="1790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539640" y="1917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52360" y="521496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 rats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492360" y="592920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215040" y="5589720"/>
            <a:ext cx="271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y this o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7257960" y="3108240"/>
            <a:ext cx="14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6545160" y="62064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Picture 16" descr="锤子"/>
          <p:cNvPicPr/>
          <p:nvPr/>
        </p:nvPicPr>
        <p:blipFill>
          <a:blip r:embed="rId8"/>
          <a:stretch/>
        </p:blipFill>
        <p:spPr>
          <a:xfrm>
            <a:off x="3851280" y="2637000"/>
            <a:ext cx="1657440" cy="1655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2857680" y="1844640"/>
            <a:ext cx="35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’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o tigh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矩形 18" descr=""/>
          <p:cNvPicPr/>
          <p:nvPr/>
        </p:nvPicPr>
        <p:blipFill>
          <a:blip r:embed="rId9"/>
          <a:stretch/>
        </p:blipFill>
        <p:spPr>
          <a:xfrm>
            <a:off x="-189000" y="-281160"/>
            <a:ext cx="2919600" cy="179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d:\360\360se6\USERDA~1\Temp\head.jpg"/>
          <p:cNvPicPr/>
          <p:nvPr/>
        </p:nvPicPr>
        <p:blipFill>
          <a:blip r:embed="rId10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607" dur="indefinite" restart="never" nodeType="tmRoot">
          <p:childTnLst>
            <p:seq>
              <p:cTn id="60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50417 -0.026204 E">
                                      <p:cBhvr>
                                        <p:cTn id="612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7%A0%B8%E9%87%91%E8%9B%8B%E7%9A%84%E5%A3%B0%E9%9F%B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1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622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2917 0.236296 E">
                                      <p:cBhvr>
                                        <p:cTn id="625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7%A0%B8%E9%87%91%E8%9B%8B%E7%9A%84%E5%A3%B0%E9%9F%B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58 -0.005278 L 0.090556 0.278241 E">
                                      <p:cBhvr>
                                        <p:cTn id="638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7%A0%B8%E9%87%91%E8%9B%8B%E7%9A%84%E5%A3%B0%E9%9F%B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22917 0.178519 E">
                                      <p:cBhvr>
                                        <p:cTn id="651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7%A0%B8%E9%87%91%E8%9B%8B%E7%9A%84%E5%A3%B0%E9%9F%B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54375 -0.199537 E">
                                      <p:cBhvr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E7%A0%B8%E9%87%91%E8%9B%8B%E7%9A%84%E5%A3%B0%E9%9F%B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7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4167 -0.372778 E">
                                      <p:cBhvr>
                                        <p:cTn id="677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7%A0%B8%E9%87%91%E8%9B%8B%E7%9A%84%E5%A3%B0%E9%9F%B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68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06 -0.026204 L -0.200833 -0.330741 E">
                                      <p:cBhvr>
                                        <p:cTn id="69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E7%A0%B8%E9%87%91%E8%9B%8B%E7%9A%84%E5%A3%B0%E9%9F%B3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d:\360\360se6\USERDA~1\Temp\200805~1.JPG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2"/>
          <p:cNvSpPr/>
          <p:nvPr/>
        </p:nvSpPr>
        <p:spPr>
          <a:xfrm rot="21064800">
            <a:off x="900000" y="1267920"/>
            <a:ext cx="396900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P61 and 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并熟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页，签字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1920MHTN_002007"/>
          <p:cNvPicPr/>
          <p:nvPr/>
        </p:nvPicPr>
        <p:blipFill>
          <a:blip r:embed="rId1"/>
          <a:stretch/>
        </p:blipFill>
        <p:spPr>
          <a:xfrm>
            <a:off x="11430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矩形 2" descr=""/>
          <p:cNvPicPr/>
          <p:nvPr/>
        </p:nvPicPr>
        <p:blipFill>
          <a:blip r:embed="rId2"/>
          <a:stretch/>
        </p:blipFill>
        <p:spPr>
          <a:xfrm>
            <a:off x="0" y="-642960"/>
            <a:ext cx="512136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20106115247713"/>
          <p:cNvPicPr/>
          <p:nvPr/>
        </p:nvPicPr>
        <p:blipFill>
          <a:blip r:embed="rId1"/>
          <a:srcRect l="0" t="0" r="14065" b="0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1" descr="d:\360\360se6\USERDA~1\Temp\M_14_6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AVSEQ05_clip.wmv" descr=""/>
          <p:cNvPicPr/>
          <p:nvPr/>
        </p:nvPicPr>
        <p:blipFill>
          <a:blip r:embed="rId2"/>
          <a:stretch/>
        </p:blipFill>
        <p:spPr>
          <a:xfrm>
            <a:off x="571680" y="642960"/>
            <a:ext cx="7929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933064123698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20093306412369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tight"/>
          <p:cNvPicPr/>
          <p:nvPr/>
        </p:nvPicPr>
        <p:blipFill>
          <a:blip r:embed="rId3"/>
          <a:stretch/>
        </p:blipFill>
        <p:spPr>
          <a:xfrm>
            <a:off x="3060720" y="333360"/>
            <a:ext cx="1835280" cy="3311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763640" y="378936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482920" y="378936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273480" y="378936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ig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348000" y="45021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ai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854520" y="5229360"/>
            <a:ext cx="23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's too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4" descr="tight"/>
          <p:cNvPicPr/>
          <p:nvPr/>
        </p:nvPicPr>
        <p:blipFill>
          <a:blip r:embed="rId4"/>
          <a:stretch/>
        </p:blipFill>
        <p:spPr>
          <a:xfrm>
            <a:off x="1979640" y="4797360"/>
            <a:ext cx="662040" cy="1192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tight"/>
          <p:cNvPicPr/>
          <p:nvPr/>
        </p:nvPicPr>
        <p:blipFill>
          <a:blip r:embed="rId5"/>
          <a:stretch/>
        </p:blipFill>
        <p:spPr>
          <a:xfrm>
            <a:off x="3060720" y="4797360"/>
            <a:ext cx="660240" cy="119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ight"/>
          <p:cNvPicPr/>
          <p:nvPr/>
        </p:nvPicPr>
        <p:blipFill>
          <a:blip r:embed="rId6"/>
          <a:stretch/>
        </p:blipFill>
        <p:spPr>
          <a:xfrm>
            <a:off x="5364000" y="4797360"/>
            <a:ext cx="662040" cy="1192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084720" y="508644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2" descr="d:\360\360se6\USERDA~1\Temp\head.jpg"/>
          <p:cNvPicPr/>
          <p:nvPr/>
        </p:nvPicPr>
        <p:blipFill>
          <a:blip r:embed="rId7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00933064123698"/>
          <p:cNvPicPr/>
          <p:nvPr/>
        </p:nvPicPr>
        <p:blipFill>
          <a:blip r:embed="rId1"/>
          <a:stretch/>
        </p:blipFill>
        <p:spPr>
          <a:xfrm>
            <a:off x="-3168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loose"/>
          <p:cNvPicPr/>
          <p:nvPr/>
        </p:nvPicPr>
        <p:blipFill>
          <a:blip r:embed="rId2"/>
          <a:stretch/>
        </p:blipFill>
        <p:spPr>
          <a:xfrm>
            <a:off x="2930400" y="260280"/>
            <a:ext cx="1930680" cy="3316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3130560" y="367524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060720" y="3675240"/>
            <a:ext cx="3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3997440" y="36752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203640" y="429408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u:/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Picture 4" descr="loose"/>
          <p:cNvPicPr/>
          <p:nvPr/>
        </p:nvPicPr>
        <p:blipFill>
          <a:blip r:embed="rId3"/>
          <a:stretch/>
        </p:blipFill>
        <p:spPr>
          <a:xfrm>
            <a:off x="1860480" y="4870440"/>
            <a:ext cx="695520" cy="119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loose"/>
          <p:cNvPicPr/>
          <p:nvPr/>
        </p:nvPicPr>
        <p:blipFill>
          <a:blip r:embed="rId4"/>
          <a:stretch/>
        </p:blipFill>
        <p:spPr>
          <a:xfrm>
            <a:off x="2940120" y="4870440"/>
            <a:ext cx="69516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loose"/>
          <p:cNvPicPr/>
          <p:nvPr/>
        </p:nvPicPr>
        <p:blipFill>
          <a:blip r:embed="rId5"/>
          <a:stretch/>
        </p:blipFill>
        <p:spPr>
          <a:xfrm>
            <a:off x="5219640" y="4870440"/>
            <a:ext cx="695520" cy="1193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3854520" y="5229360"/>
            <a:ext cx="250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's too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084720" y="508644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2" descr="d:\360\360se6\USERDA~1\Temp\head.jpg"/>
          <p:cNvPicPr/>
          <p:nvPr/>
        </p:nvPicPr>
        <p:blipFill>
          <a:blip r:embed="rId6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009330641236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200933064123698"/>
          <p:cNvPicPr/>
          <p:nvPr/>
        </p:nvPicPr>
        <p:blipFill>
          <a:blip r:embed="rId2"/>
          <a:stretch/>
        </p:blipFill>
        <p:spPr>
          <a:xfrm>
            <a:off x="0" y="-9360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short"/>
          <p:cNvPicPr/>
          <p:nvPr/>
        </p:nvPicPr>
        <p:blipFill>
          <a:blip r:embed="rId3"/>
          <a:stretch/>
        </p:blipFill>
        <p:spPr>
          <a:xfrm>
            <a:off x="3132000" y="117360"/>
            <a:ext cx="1778040" cy="3311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2629080" y="364500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276720" y="429408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ɔ:/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979640" y="364500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191120" y="364500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84720" y="508644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7" descr="short"/>
          <p:cNvPicPr/>
          <p:nvPr/>
        </p:nvPicPr>
        <p:blipFill>
          <a:blip r:embed="rId4"/>
          <a:stretch/>
        </p:blipFill>
        <p:spPr>
          <a:xfrm>
            <a:off x="2052720" y="4797360"/>
            <a:ext cx="619200" cy="115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hort"/>
          <p:cNvPicPr/>
          <p:nvPr/>
        </p:nvPicPr>
        <p:blipFill>
          <a:blip r:embed="rId5"/>
          <a:stretch/>
        </p:blipFill>
        <p:spPr>
          <a:xfrm>
            <a:off x="2987640" y="4797360"/>
            <a:ext cx="61920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short"/>
          <p:cNvPicPr/>
          <p:nvPr/>
        </p:nvPicPr>
        <p:blipFill>
          <a:blip r:embed="rId6"/>
          <a:stretch/>
        </p:blipFill>
        <p:spPr>
          <a:xfrm>
            <a:off x="5364000" y="4797360"/>
            <a:ext cx="619200" cy="1150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3"/>
          <p:cNvSpPr/>
          <p:nvPr/>
        </p:nvSpPr>
        <p:spPr>
          <a:xfrm>
            <a:off x="3843360" y="5219640"/>
            <a:ext cx="13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's too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2" descr="d:\360\360se6\USERDA~1\Temp\head.jpg"/>
          <p:cNvPicPr/>
          <p:nvPr/>
        </p:nvPicPr>
        <p:blipFill>
          <a:blip r:embed="rId7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933064123698"/>
          <p:cNvPicPr/>
          <p:nvPr/>
        </p:nvPicPr>
        <p:blipFill>
          <a:blip r:embed="rId1"/>
          <a:stretch/>
        </p:blipFill>
        <p:spPr>
          <a:xfrm>
            <a:off x="-3168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ng"/>
          <p:cNvPicPr/>
          <p:nvPr/>
        </p:nvPicPr>
        <p:blipFill>
          <a:blip r:embed="rId2"/>
          <a:stretch/>
        </p:blipFill>
        <p:spPr>
          <a:xfrm>
            <a:off x="3060720" y="117360"/>
            <a:ext cx="1932120" cy="3308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2484360" y="353052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843280" y="353052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059280" y="3530520"/>
            <a:ext cx="23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3276720" y="40831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/ɔ/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897360" y="40831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/ŋ/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854520" y="5229360"/>
            <a:ext cx="25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's too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084720" y="5086440"/>
            <a:ext cx="55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4" descr="long"/>
          <p:cNvPicPr/>
          <p:nvPr/>
        </p:nvPicPr>
        <p:blipFill>
          <a:blip r:embed="rId3"/>
          <a:stretch/>
        </p:blipFill>
        <p:spPr>
          <a:xfrm>
            <a:off x="2052720" y="4869000"/>
            <a:ext cx="676080" cy="115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long"/>
          <p:cNvPicPr/>
          <p:nvPr/>
        </p:nvPicPr>
        <p:blipFill>
          <a:blip r:embed="rId4"/>
          <a:stretch/>
        </p:blipFill>
        <p:spPr>
          <a:xfrm>
            <a:off x="2987640" y="4869000"/>
            <a:ext cx="67644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long"/>
          <p:cNvPicPr/>
          <p:nvPr/>
        </p:nvPicPr>
        <p:blipFill>
          <a:blip r:embed="rId5"/>
          <a:stretch/>
        </p:blipFill>
        <p:spPr>
          <a:xfrm>
            <a:off x="5292720" y="4869000"/>
            <a:ext cx="673200" cy="115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360\360se6\USERDA~1\Temp\head.jpg"/>
          <p:cNvPicPr/>
          <p:nvPr/>
        </p:nvPicPr>
        <p:blipFill>
          <a:blip r:embed="rId6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0" descr="d:\360\360se6\USERDA~1\Temp\201203~1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7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hort"/>
          <p:cNvPicPr/>
          <p:nvPr/>
        </p:nvPicPr>
        <p:blipFill>
          <a:blip r:embed="rId2"/>
          <a:stretch/>
        </p:blipFill>
        <p:spPr>
          <a:xfrm>
            <a:off x="1835280" y="476280"/>
            <a:ext cx="1368360" cy="201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loose"/>
          <p:cNvPicPr/>
          <p:nvPr/>
        </p:nvPicPr>
        <p:blipFill>
          <a:blip r:embed="rId3"/>
          <a:stretch/>
        </p:blipFill>
        <p:spPr>
          <a:xfrm>
            <a:off x="4705200" y="476280"/>
            <a:ext cx="1235160" cy="2120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tight"/>
          <p:cNvPicPr/>
          <p:nvPr/>
        </p:nvPicPr>
        <p:blipFill>
          <a:blip r:embed="rId4"/>
          <a:stretch/>
        </p:blipFill>
        <p:spPr>
          <a:xfrm>
            <a:off x="1908000" y="3286080"/>
            <a:ext cx="1151280" cy="2230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long"/>
          <p:cNvPicPr/>
          <p:nvPr/>
        </p:nvPicPr>
        <p:blipFill>
          <a:blip r:embed="rId5"/>
          <a:stretch/>
        </p:blipFill>
        <p:spPr>
          <a:xfrm>
            <a:off x="4643280" y="3357720"/>
            <a:ext cx="1420920" cy="23032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0"/>
          <p:cNvSpPr/>
          <p:nvPr/>
        </p:nvSpPr>
        <p:spPr>
          <a:xfrm>
            <a:off x="6227640" y="549360"/>
            <a:ext cx="2665440" cy="5113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659640" y="836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588000" y="2060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659640" y="3284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732720" y="4508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igh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12" descr="2009042412390756"/>
          <p:cNvPicPr/>
          <p:nvPr/>
        </p:nvPicPr>
        <p:blipFill>
          <a:blip r:embed="rId6"/>
          <a:stretch/>
        </p:blipFill>
        <p:spPr>
          <a:xfrm>
            <a:off x="7597800" y="-155520"/>
            <a:ext cx="1238400" cy="1228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d:\360\360se6\USERDA~1\Temp\head.jpg"/>
          <p:cNvPicPr/>
          <p:nvPr/>
        </p:nvPicPr>
        <p:blipFill>
          <a:blip r:embed="rId7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3.88889E-006 -3.08582E-006 L -0.2323 0.66852 E">
                                      <p:cBhvr>
                                        <p:cTn id="36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-3.61111E-006 -1.45501E-006 L -0.53159 0.03886 E">
                                      <p:cBhvr>
                                        <p:cTn id="368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1.38889E-006 1.75804E-007 L -0.24011 -0.12885 E">
                                      <p:cBhvr>
                                        <p:cTn id="37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3.33333E-006 1.80662E-006 L -0.54341 0.12283 E">
                                      <p:cBhvr>
                                        <p:cTn id="37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2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3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84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3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4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5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6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5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6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6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7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9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8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9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0" dur="1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5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0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1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0 0 C -0.118542 0.039815 -0.472778 0.158611 -0.593819 0.199444 C -0.714861 0.240278 -0.614861 0.20713 -0.605278 0.204074 E">
                                      <p:cBhvr>
                                        <p:cTn id="47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-0.623611 0.202593 C -0.560486 0.212407 -0.370486 0.249537 -0.308333 0.245556 C -0.246181 0.241574 -0.311806 0.200185 -0.312917 0.182685 C -0.314028 0.165185 -0.314236 0.162778 -0.314028 0.158148 C -0.313819 0.153519 -0.312222 0.158796 -0.311736 0.15963 E">
                                      <p:cBhvr>
                                        <p:cTn id="48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-0.3175 0.151944 L -0.318681 0.162685 L -0.320972 0.173426 L -0.325556 0.184167 L -0.329028 0.196481 L -0.333611 0.208796 L -0.339375 0.219537 L -0.345139 0.233333 L -0.348611 0.244074 L -0.355486 0.260926 L -0.360069 0.273148 L -0.362361 0.283889 L -0.365833 0.297778 L -0.365833 0.311574 L -0.365833 0.323796 L -0.363542 0.337593 L -0.360069 0.349907 L -0.356667 0.360648 L -0.353194 0.372963 L -0.34625 0.391296 L -0.341667 0.405185 L -0.339375 0.420463 L -0.334792 0.434259 L -0.3325 0.445 L -0.334792 0.455741 L -0.343958 0.465 L -0.353194 0.466481 L -0.364722 0.466481 L -0.376181 0.465 L -0.386528 0.463426 L -0.395764 0.46037 L -0.405 0.458889 L -0.413056 0.455741 L -0.422222 0.454259 L -0.431458 0.451204 L -0.440625 0.44963 L -0.449861 0.446574 L -0.457917 0.440463 L -0.467083 0.429722 L -0.474028 0.418981 L -0.477431 0.408241 L -0.485486 0.395926 L -0.490139 0.383704 L -0.495903 0.371389 L -0.502778 0.356019 L -0.512014 0.339167 L -0.516597 0.328426 L -0.522361 0.31463 L -0.526944 0.303889 L -0.531528 0.290093 L -0.538472 0.274722 L -0.545347 0.25787 L -0.551111 0.240926 L -0.555694 0.230185 L -0.56375 0.222593 L -0.571806 0.219537 L -0.579861 0.221019 L -0.585625 0.233333 L -0.586806 0.245556 L -0.597153 0.236389 L -0.605208 0.231759 L -0.605208 0.221019 E">
                                      <p:cBhvr>
                                        <p:cTn id="48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Motion origin="layout" path="M -0.6075 0.244074 L -0.606319 0.259352 L -0.604028 0.271667 L -0.601736 0.282407 L -0.599444 0.296204 L -0.595972 0.31 L -0.590208 0.331481 L -0.585625 0.345278 L -0.582153 0.357593 L -0.572986 0.38213 L -0.566042 0.402037 L -0.561458 0.412778 L -0.553403 0.435833 L -0.548819 0.448148 L -0.544236 0.458889 L -0.539583 0.474167 L -0.533819 0.487963 L -0.520069 0.520185 L -0.513125 0.535556 L -0.498194 0.560093 L -0.488958 0.570833 L -0.478611 0.581574 L -0.467083 0.58463 L -0.454444 0.586204 L -0.446389 0.586204 L -0.431458 0.587685 L -0.410694 0.587685 L -0.398056 0.586204 L -0.39 0.58463 L -0.371597 0.576944 L -0.358958 0.569352 L -0.348611 0.560093 L -0.341667 0.549352 L -0.340556 0.53713 L -0.348611 0.53713 L -0.348611 0.54787 L -0.340556 0.541667 L -0.3325 0.534074 L -0.324444 0.534074 L -0.316389 0.534074 L -0.308333 0.53713 L -0.300278 0.541667 L -0.299097 0.552407 L -0.303681 0.563148 L -0.311736 0.563148 E">
                                      <p:cBhvr>
                                        <p:cTn id="48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Motion origin="layout" path="M -0.303681 0.567778 L -0.303681 0.557037 L -0.301389 0.546296 L -0.295625 0.530926 L -0.292222 0.520185 L -0.289861 0.507963 L -0.289861 0.492593 L -0.292222 0.48037 L -0.297917 0.465 L -0.304861 0.451204 L -0.314028 0.438889 L -0.320972 0.426667 L -0.330139 0.412778 L -0.339375 0.406667 L -0.349722 0.395926 L -0.36125 0.388241 L -0.379653 0.38213 L -0.387708 0.38213 L -0.400347 0.38213 L -0.414167 0.380556 L -0.422222 0.380556 L -0.432569 0.380556 L -0.448681 0.380556 L -0.465972 0.389815 L -0.476319 0.398981 L -0.490139 0.411296 L -0.498194 0.418981 L -0.512014 0.431204 L -0.525764 0.448148 L -0.547639 0.477222 L -0.559167 0.494167 L -0.567222 0.507963 L -0.572986 0.518704 L -0.576458 0.530926 L -0.57875 0.541667 L -0.579861 0.553981 L -0.582153 0.564722 L -0.582153 0.576944 L -0.587917 0.587685 L -0.595972 0.590833 L -0.605208 0.59537 L -0.616736 0.596944 L -0.631667 0.549352 E">
                                      <p:cBhvr>
                                        <p:cTn id="49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-0.632847 0.543241 L -0.624792 0.5325 L -0.616736 0.524815 L -0.6075 0.520185 L -0.599444 0.51713 L -0.587917 0.514074 L -0.57875 0.514074 L -0.568403 0.514074 L -0.559167 0.514074 L -0.551111 0.514074 L -0.538472 0.514074 L -0.530417 0.514074 L -0.518889 0.514074 L -0.50625 0.514074 L -0.492431 0.514074 L -0.479792 0.514074 L -0.470556 0.514074 L -0.460208 0.512593 L -0.450972 0.511019 L -0.436042 0.506389 L -0.421042 0.503333 L -0.409583 0.501852 L -0.401528 0.498704 L -0.392292 0.494167 L -0.383125 0.489537 L -0.373889 0.483426 L -0.364722 0.477222 L -0.356667 0.468056 L -0.349722 0.457315 L -0.345139 0.446574 L -0.345139 0.435833 L -0.352014 0.446574 L -0.354306 0.457315 L -0.352014 0.468056 L -0.343958 0.48037 L -0.335903 0.489537 L -0.327847 0.492593 L -0.319792 0.494167 L -0.311736 0.494167 L -0.309444 0.504907 L -0.309444 0.518704 L -0.309444 0.529444 L -0.309444 0.546296 L -0.309444 0.560093 L -0.309444 0.572407 L -0.309444 0.586204 L -0.312917 0.601574 L -0.316389 0.613796 L -0.324444 0.612315 L -0.324444 0.601574 L -0.324444 0.590833 E">
                                      <p:cBhvr>
                                        <p:cTn id="49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-0.323264 0.58463 L -0.315208 0.578519 L -0.307153 0.573889 L -0.299097 0.573889 L -0.291042 0.570833 L -0.282986 0.566204 L -0.278403 0.555556 L -0.278403 0.544815 L -0.282986 0.534074 L -0.281806 0.523333 L -0.284167 0.512593 L -0.279514 0.497222 L -0.271458 0.484907 L -0.263403 0.474167 L -0.255347 0.463426 L -0.249583 0.452685 L -0.242708 0.441944 L -0.236944 0.429722 L -0.233472 0.417407 L -0.233472 0.405185 L -0.236944 0.394444 L -0.242708 0.383704 L -0.251944 0.374444 L -0.262292 0.368333 L -0.271458 0.362222 L -0.279514 0.357593 L -0.287569 0.352963 L -0.296806 0.348333 L -0.304861 0.345278 L -0.314028 0.343796 L -0.322083 0.343796 L -0.330139 0.345278 L -0.338194 0.352963 L -0.348611 0.360648 L -0.357778 0.369815 L -0.368125 0.3775 L -0.379653 0.388241 L -0.395764 0.400556 L -0.409583 0.409722 L -0.424514 0.420463 L -0.446389 0.435833 L -0.4625 0.451204 L -0.471736 0.457315 L -0.490139 0.472685 L -0.498194 0.481852 L -0.50625 0.489537 L -0.515417 0.495648 L -0.526944 0.507963 L -0.538472 0.51713 L -0.546528 0.524815 L -0.555694 0.5325 L -0.56375 0.53713 L -0.572986 0.543241 L -0.582153 0.543241 L -0.594861 0.538611 L -0.604028 0.5325 L -0.613264 0.526389 L -0.620139 0.515648 L -0.623611 0.503333 E">
                                      <p:cBhvr>
                                        <p:cTn id="50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-0.631667 0.549352 L -0.621319 0.549352 L -0.610972 0.54787 L -0.599444 0.54787 L -0.581042 0.54787 L -0.572986 0.546296 L -0.552292 0.541667 L -0.539583 0.540185 L -0.523472 0.534074 L -0.508542 0.526389 L -0.498194 0.523333 L -0.485486 0.51713 L -0.471736 0.514074 L -0.461319 0.507963 L -0.445208 0.503333 L -0.437153 0.498704 L -0.427986 0.492593 L -0.417639 0.483426 L -0.405 0.465 L -0.393472 0.445 L -0.388889 0.434259 L -0.384236 0.420463 L -0.377361 0.402037 L -0.371597 0.385185 L -0.364722 0.369815 L -0.360069 0.356019 L -0.354306 0.337593 L -0.349722 0.322315 L -0.347431 0.31 L -0.343958 0.296204 L -0.339375 0.279352 L -0.335903 0.267037 L -0.3325 0.256296 L -0.330139 0.245556 L -0.326736 0.234815 L -0.322083 0.224074 L -0.3175 0.213333 L -0.309444 0.204167 L -0.301389 0.198056 L -0.293333 0.196481 L -0.285278 0.196481 L -0.276111 0.196481 L -0.268056 0.193426 L -0.257639 0.191852 L -0.245 0.187315 L -0.230069 0.181111 L -0.218542 0.175 L -0.208194 0.17037 L -0.197847 0.167315 L -0.1875 0.164259 L -0.175972 0.158148 L -0.161042 0.150463 L -0.151806 0.144352 L -0.14375 0.139722 L -0.134514 0.133611 L -0.126458 0.128981 L -0.117292 0.12287 L -0.128819 0.130463 L -0.14375 0.133611 L -0.152986 0.135093 L -0.173681 0.139722 L -0.182847 0.142778 L -0.200139 0.147407 L -0.208194 0.150463 L -0.219722 0.155093 L -0.228889 0.15963 L -0.239236 0.165833 L -0.247292 0.171944 L -0.255347 0.176574 L -0.263403 0.185741 L -0.272639 0.193426 L -0.281806 0.204167 L -0.28875 0.214907 L -0.293333 0.201111 L -0.287569 0.19037 L -0.28875 0.17963 L -0.28875 0.168889 E">
                                      <p:cBhvr>
                                        <p:cTn id="50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-0.324901 0.13586 L -0.320004 0.127071 L -0.311435 0.116817 L -0.308987 0.108028 L -0.307763 0.099239 L -0.307763 0.09045 L -0.311435 0.081662 L -0.317556 0.069943 L -0.322452 0.059775 L -0.328573 0.049522 L -0.335919 0.040732 L -0.344487 0.030479 L -0.351833 0.023154 L -0.364002 0.011436 L -0.372571 0.005576 L -0.379916 -0.000283 L -0.38726 -0.004677 L -0.398278 -0.010536 L -0.405623 -0.01338 L -0.412968 -0.01631 L -0.420313 -0.020704 L -0.430034 -0.022169 L -0.43738 -0.023635 L -0.444724 -0.025099 L -0.452069 -0.026564 L -0.459414 -0.028029 L -0.469207 -0.028029 L -0.480224 -0.028029 L -0.487498 -0.028029 L -0.494842 -0.028029 L -0.503411 -0.028029 L -0.515653 -0.028029 L -0.530344 -0.026564 L -0.538912 -0.025099 L -0.548705 -0.023635 L -0.55965 -0.022169 L -0.575565 -0.020704 L -0.587806 -0.019239 L -0.596375 -0.01631 L -0.60372 -0.01338 L -0.612289 -0.010536 L -0.62201 -0.006142 L -0.635476 -0.001748 L -0.642822 0.001182 L -0.657511 0.005576 L -0.669753 0.011436 L -0.677097 0.012901 L -0.685595 0.014365 L -0.700284 0.01876 L -0.708853 0.020225 L -0.716199 0.020225 L -0.724768 0.020225 L -0.733336 0.020225 L -0.741906 0.020225 L -0.749179 0.021689 L -0.756524 0.023154 L -0.763869 0.023154 L -0.772438 0.026084 L -0.779783 0.026084 L -0.788352 0.027548 L -0.795696 0.027548 L -0.804266 0.027548 L -0.812763 0.027548 L -0.820108 0.027548 L -0.827452 0.029014 L -0.836022 0.029014 L -0.843367 0.029014 L -0.850712 0.030479 L -0.859281 0.036338 L -0.866626 0.043662 L -0.875123 0.048056 L -0.882468 0.050986 L -0.889813 0.050986 L -0.897158 0.050986 L -0.904503 0.052451 L -0.911848 0.052451 L -0.919193 0.052451 L -0.926538 0.048056 L -0.933882 0.040732 L -0.939932 0.031944 L -0.944755 0.023154 L -0.952101 0.01583 L -0.959446 0.008506 L -0.96679 0.005576 L -0.965567 -0.003213 L -0.96067 -0.011916 L -0.956998 -0.020704 L -0.964342 -0.020704 E">
                                      <p:cBhvr>
                                        <p:cTn id="50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200933064123698"/>
          <p:cNvPicPr/>
          <p:nvPr/>
        </p:nvPicPr>
        <p:blipFill>
          <a:blip r:embed="rId1"/>
          <a:stretch/>
        </p:blipFill>
        <p:spPr>
          <a:xfrm>
            <a:off x="-33480" y="27000"/>
            <a:ext cx="91332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197080" y="98100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igh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tigh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it's too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tigh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4" descr="tight"/>
          <p:cNvPicPr/>
          <p:nvPr/>
        </p:nvPicPr>
        <p:blipFill>
          <a:blip r:embed="rId2"/>
          <a:stretch/>
        </p:blipFill>
        <p:spPr>
          <a:xfrm>
            <a:off x="2771640" y="46080"/>
            <a:ext cx="500040" cy="90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loose"/>
          <p:cNvPicPr/>
          <p:nvPr/>
        </p:nvPicPr>
        <p:blipFill>
          <a:blip r:embed="rId3"/>
          <a:stretch/>
        </p:blipFill>
        <p:spPr>
          <a:xfrm>
            <a:off x="2700360" y="1486080"/>
            <a:ext cx="525600" cy="90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2197080" y="227664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Loo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loo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it's too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loo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197080" y="3573360"/>
            <a:ext cx="503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it's too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hor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7" descr="short"/>
          <p:cNvPicPr/>
          <p:nvPr/>
        </p:nvPicPr>
        <p:blipFill>
          <a:blip r:embed="rId4"/>
          <a:stretch/>
        </p:blipFill>
        <p:spPr>
          <a:xfrm>
            <a:off x="2700360" y="2854440"/>
            <a:ext cx="468360" cy="871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8"/>
          <p:cNvSpPr/>
          <p:nvPr/>
        </p:nvSpPr>
        <p:spPr>
          <a:xfrm>
            <a:off x="2197080" y="5013360"/>
            <a:ext cx="482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 it's too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lo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4" descr="long"/>
          <p:cNvPicPr/>
          <p:nvPr/>
        </p:nvPicPr>
        <p:blipFill>
          <a:blip r:embed="rId5"/>
          <a:stretch/>
        </p:blipFill>
        <p:spPr>
          <a:xfrm>
            <a:off x="2700360" y="4149720"/>
            <a:ext cx="511200" cy="8762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23"/>
          <p:cNvSpPr txBox="1"/>
          <p:nvPr/>
        </p:nvSpPr>
        <p:spPr>
          <a:xfrm>
            <a:off x="181080" y="117360"/>
            <a:ext cx="1366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Comic Sans MS"/>
              </a:rPr>
              <a:t>Chant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2" name="chant.WAV" descr="chant"/>
          <p:cNvPicPr/>
          <p:nvPr/>
        </p:nvPicPr>
        <p:blipFill>
          <a:blip r:embed="rId6"/>
          <a:stretch/>
        </p:blipFill>
        <p:spPr>
          <a:xfrm>
            <a:off x="-1440" y="6022800"/>
            <a:ext cx="806400" cy="809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360\360se6\USERDA~1\Temp\head.jpg"/>
          <p:cNvPicPr/>
          <p:nvPr/>
        </p:nvPicPr>
        <p:blipFill>
          <a:blip r:embed="rId7"/>
          <a:srcRect l="3159" t="14699" r="50265" b="16675"/>
          <a:stretch/>
        </p:blipFill>
        <p:spPr>
          <a:xfrm>
            <a:off x="7000920" y="6350040"/>
            <a:ext cx="21430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mediacall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cmd type="call" cmd="playFrom(0.0)">
                                      <p:cBhvr>
                                        <p:cTn id="547" dur="9290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8:20:36Z</dcterms:created>
  <dc:creator>USER</dc:creator>
  <dc:description/>
  <cp:keywords/>
  <dc:language>en-US</dc:language>
  <cp:lastModifiedBy>微软用户</cp:lastModifiedBy>
  <dcterms:modified xsi:type="dcterms:W3CDTF">2013-11-29T06:35:30Z</dcterms:modified>
  <cp:revision>4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