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applause.wav" ContentType="audio/x-wav"/>
  <Override PartName="/ppt/media/image5.png" ContentType="image/png"/>
  <Override PartName="/ppt/media/type.wav" ContentType="audio/x-wav"/>
  <Override PartName="/ppt/media/image17.png" ContentType="image/png"/>
  <Override PartName="/ppt/media/image8.png" ContentType="image/png"/>
  <Override PartName="/ppt/media/image14.jpeg" ContentType="image/jpeg"/>
  <Override PartName="/ppt/media/image21.png" ContentType="image/png"/>
  <Override PartName="/ppt/media/image13.jpeg" ContentType="image/jpeg"/>
  <Override PartName="/ppt/media/image18.png" ContentType="image/png"/>
  <Override PartName="/ppt/media/image15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suction.wav" ContentType="audio/x-wav"/>
  <Override PartName="/ppt/media/image4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6247-43FA-4AB6-9CEA-72B07FC4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486-1F6C-4D1F-9578-74159A62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C701-3847-483B-9040-54628762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C28-3A8A-43A6-8DDF-6571EE0A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163-1323-4199-87BF-9C98C8C3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BAE-37C2-4D71-895D-76A73906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A0FA-F654-417B-BAC6-2AE73D80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3CB4-22F3-436B-98A5-5503D062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46E-9D4C-41D5-A0AF-861844C1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24A-1DCF-418C-9B02-F8B8151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5E7D-EEBB-4E8E-94F5-E082C37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ACE-A93E-42CB-BC8A-20D77AE0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A5DE-ECCD-456A-A56E-647298FD0F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0%C4&amp;in=18830&amp;cl=2&amp;lm=-1&amp;pn=178&amp;rn=1&amp;di=68611254555&amp;ln=2000&amp;fr=&amp;fmq=&amp;ic=0&amp;s=0&amp;se=1&amp;sme=0&amp;tab=&amp;width=&amp;height=&amp;face=0&amp;is=&amp;istype=2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e.baidu.com/i?ct=503316480&amp;z=&amp;tn=baiduimagedetail&amp;word=%D0%C4&amp;in=18830&amp;cl=2&amp;lm=-1&amp;pn=178&amp;rn=1&amp;di=68611254555&amp;ln=2000&amp;fr=&amp;fmq=&amp;ic=0&amp;s=0&amp;se=1&amp;sme=0&amp;tab=&amp;width=&amp;height=&amp;face=0&amp;is=&amp;istype=2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image.baidu.com/i?ct=503316480&amp;z=&amp;tn=baiduimagedetail&amp;word=%D0%C4&amp;in=18830&amp;cl=2&amp;lm=-1&amp;pn=178&amp;rn=1&amp;di=68611254555&amp;ln=2000&amp;fr=&amp;fmq=&amp;ic=0&amp;s=0&amp;se=1&amp;sme=0&amp;tab=&amp;width=&amp;height=&amp;face=0&amp;is=&amp;istype=2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05320" y="380880"/>
            <a:ext cx="59436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L71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Sue’s diary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18007" t="0" r="978" b="0"/>
          <a:stretch/>
        </p:blipFill>
        <p:spPr>
          <a:xfrm>
            <a:off x="0" y="380880"/>
            <a:ext cx="3429000" cy="63248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736080" y="2514600"/>
            <a:ext cx="51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ucky or unluck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2461" t="10000" r="1639" b="77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43000" y="5335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e’s d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1066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vember 18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52388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esterday it ____(is) Sunday, 17th November. It ____(is) my unlucky 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743200"/>
            <a:ext cx="3886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fter breakfast, I______ (want) to ride on my new bicycle. It’s the first time I _____(try) to ride on it. But I fell down the bike in a few minutes. And I _____(hurt) a lot. Then mum _____(put) some iodine on my left leg and ____(put) some sticking plaster round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426708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3733920"/>
            <a:ext cx="3733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An hour later, I _____ (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again, then I learned how to ride the bicycle. I ____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）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so happ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819520" cy="2179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362320" y="15238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4495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2727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6417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37339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4572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181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81280" y="152280"/>
            <a:ext cx="2210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Let's do!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99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BatangChe"/>
                <a:ea typeface="BatangChe"/>
              </a:rPr>
              <a:t>让我们用括号里动词的适当形式填空，帮助</a:t>
            </a:r>
            <a:r>
              <a:rPr b="1" lang="zh-CN" sz="1800" spc="-1" strike="noStrike">
                <a:solidFill>
                  <a:srgbClr val="000000"/>
                </a:solidFill>
                <a:latin typeface="BatangChe"/>
                <a:ea typeface="BatangChe"/>
              </a:rPr>
              <a:t>Sue</a:t>
            </a:r>
            <a:r>
              <a:rPr b="1" lang="zh-CN" sz="1800" spc="-1" strike="noStrike">
                <a:solidFill>
                  <a:srgbClr val="000000"/>
                </a:solidFill>
                <a:latin typeface="BatangChe"/>
                <a:ea typeface="BatangChe"/>
              </a:rPr>
              <a:t>完成她的日记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rcRect l="35853" t="3960" r="0" b="0"/>
          <a:stretch/>
        </p:blipFill>
        <p:spPr>
          <a:xfrm>
            <a:off x="7315200" y="5029200"/>
            <a:ext cx="99072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38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9" dur="385" fill="hold"/>
                                        <p:tgtEl>
                                          <p:spTgt spid="1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1" dur="38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3" dur="385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bright="6000"/>
          </a:blip>
          <a:srcRect l="0" t="0" r="0" b="34450"/>
          <a:stretch/>
        </p:blipFill>
        <p:spPr>
          <a:xfrm>
            <a:off x="-15228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523880" y="380880"/>
            <a:ext cx="2438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迷你简蝶语"/>
              </a:rPr>
              <a:t>Think about it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迷你简蝶语"/>
              <a:ea typeface="迷你简蝶语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523880"/>
            <a:ext cx="7238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it lucky or unlucky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u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657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94360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0" r="33506" b="48875"/>
          <a:stretch/>
        </p:blipFill>
        <p:spPr>
          <a:xfrm>
            <a:off x="0" y="0"/>
            <a:ext cx="4267080" cy="388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4114800"/>
            <a:ext cx="9144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Monotype Corsiva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e should do things carefully and protect ourselves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我们要认真做好每一件事情，保护好自己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2666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"/>
              </a:rPr>
              <a:t>（如果你受伤了，是幸运还是不幸运呢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120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8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192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1" dur="192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3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5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364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ords and Expres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lucky     hurt      mind     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ntences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In the morning 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is finger with the bread-kn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In the evening we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, but Sand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d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d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Important points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ut…on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涂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24382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ut…round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缠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2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3906" t="0" r="2345" b="114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1828800"/>
            <a:ext cx="87930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ad the text and try to recit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key sentences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熟读课文，重点句子会背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Copy the key words, sent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nd the past tense of verbs twic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n have a dictation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词、句子两英一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听写。过去式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133720" y="914400"/>
            <a:ext cx="4238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迷你简蝶语"/>
              </a:rPr>
              <a:t>Home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迷你简蝶语"/>
              <a:ea typeface="迷你简蝶语"/>
            </a:endParaRPr>
          </a:p>
        </p:txBody>
      </p:sp>
    </p:spTree>
  </p:cSld>
  <p:transition>
    <p:wipe dir="r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227640" y="2924280"/>
            <a:ext cx="1656000" cy="1224000"/>
          </a:xfrm>
          <a:prstGeom prst="octagon">
            <a:avLst>
              <a:gd name="adj" fmla="val 292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046920" y="990720"/>
            <a:ext cx="3097080" cy="1655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97760" y="1371600"/>
            <a:ext cx="294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Goodby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743200" y="228600"/>
            <a:ext cx="36338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New word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1995480"/>
            <a:ext cx="16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ller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ller"/>
              </a:rPr>
              <a:t>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ə</a:t>
            </a:r>
            <a:r>
              <a:rPr b="0" lang="en-US" sz="2400" spc="-1" strike="noStrike">
                <a:solidFill>
                  <a:srgbClr val="ff0000"/>
                </a:solidFill>
                <a:latin typeface="Aller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ller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ller"/>
              </a:rPr>
              <a:t> /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9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</a:rPr>
              <a:t>vt.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伤痛，损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99548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h</a:t>
            </a:r>
            <a:r>
              <a:rPr b="1" lang="en-US" sz="3200" spc="-1" strike="noStrike">
                <a:solidFill>
                  <a:srgbClr val="0000ff"/>
                </a:solidFill>
                <a:latin typeface="Aller"/>
              </a:rPr>
              <a:t>ur</a:t>
            </a: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ller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048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ler"/>
              </a:rPr>
              <a:t>e.g.</a:t>
            </a:r>
            <a:r>
              <a:rPr b="0" lang="en-US" sz="2400" spc="-1" strike="noStrike">
                <a:solidFill>
                  <a:srgbClr val="0000ff"/>
                </a:solidFill>
                <a:latin typeface="Aller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  <a:ea typeface="迷你简卡通"/>
              </a:rPr>
              <a:t>Sandy’s hand </a:t>
            </a:r>
            <a:r>
              <a:rPr b="1" lang="en-US" sz="2800" spc="-1" strike="noStrike">
                <a:solidFill>
                  <a:srgbClr val="ff0000"/>
                </a:solidFill>
                <a:latin typeface="Aller"/>
                <a:ea typeface="迷你简卡通"/>
              </a:rPr>
              <a:t>hurt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  <a:ea typeface="迷你简卡通"/>
              </a:rPr>
              <a:t>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590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昨天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Sandy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的手受伤了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3657600"/>
            <a:ext cx="1371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r</a:t>
            </a:r>
            <a:r>
              <a:rPr b="1" lang="en-US" sz="3200" spc="-1" strike="noStrike">
                <a:solidFill>
                  <a:srgbClr val="0000ff"/>
                </a:solidFill>
                <a:latin typeface="Aller"/>
              </a:rPr>
              <a:t>ou</a:t>
            </a: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ller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7036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/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a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/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37036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prep.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在周围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四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181480"/>
            <a:ext cx="1524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w</a:t>
            </a:r>
            <a:r>
              <a:rPr b="1" lang="en-US" sz="3200" spc="-1" strike="noStrike">
                <a:solidFill>
                  <a:srgbClr val="0000ff"/>
                </a:solidFill>
                <a:latin typeface="Aller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ller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5181480"/>
            <a:ext cx="16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ə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 /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</a:rPr>
              <a:t>n.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词，单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44197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vt.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介意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44197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m</a:t>
            </a:r>
            <a:r>
              <a:rPr b="1" lang="en-US" sz="3200" spc="-1" strike="noStrike">
                <a:solidFill>
                  <a:srgbClr val="0000ff"/>
                </a:solidFill>
                <a:latin typeface="Aller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ll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4197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a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/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533412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ler"/>
              </a:rPr>
              <a:t>e.g.</a:t>
            </a:r>
            <a:r>
              <a:rPr b="0" lang="en-US" sz="2400" spc="-1" strike="noStrike">
                <a:solidFill>
                  <a:srgbClr val="0000ff"/>
                </a:solidFill>
                <a:latin typeface="Aller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</a:rPr>
              <a:t>I 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  <a:ea typeface="迷你简卡通"/>
              </a:rPr>
              <a:t>don’t mind at all.</a:t>
            </a:r>
            <a:r>
              <a:rPr b="1" lang="en-US" sz="2800" spc="-1" strike="noStrike">
                <a:solidFill>
                  <a:srgbClr val="000000"/>
                </a:solidFill>
                <a:latin typeface="Aller"/>
                <a:ea typeface="迷你简卡通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81952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ller"/>
              </a:rPr>
              <a:t>io</a:t>
            </a: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d</a:t>
            </a:r>
            <a:r>
              <a:rPr b="1" lang="en-US" sz="3200" spc="-1" strike="noStrike">
                <a:solidFill>
                  <a:srgbClr val="0000ff"/>
                </a:solidFill>
                <a:latin typeface="Aller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ne</a:t>
            </a:r>
            <a:r>
              <a:rPr b="0" lang="en-US" sz="3200" spc="-1" strike="noStrike">
                <a:solidFill>
                  <a:srgbClr val="000000"/>
                </a:solidFill>
                <a:latin typeface="Aller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289548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/ ’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ai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i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ller"/>
              </a:rPr>
              <a:t>/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28954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n.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碘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3223" t="0" r="30422" b="0"/>
          <a:stretch/>
        </p:blipFill>
        <p:spPr>
          <a:xfrm>
            <a:off x="6477120" y="2133720"/>
            <a:ext cx="1218960" cy="1885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5280" y="33526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ler"/>
              </a:rPr>
              <a:t>e.g.</a:t>
            </a:r>
            <a:r>
              <a:rPr b="0" lang="en-US" sz="2400" spc="-1" strike="noStrike">
                <a:solidFill>
                  <a:srgbClr val="0000ff"/>
                </a:solidFill>
                <a:latin typeface="Aller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ller"/>
              </a:rPr>
              <a:t>Put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</a:rPr>
              <a:t> some iodine </a:t>
            </a:r>
            <a:r>
              <a:rPr b="1" lang="en-US" sz="2800" spc="-1" strike="noStrike">
                <a:solidFill>
                  <a:srgbClr val="ff0000"/>
                </a:solidFill>
                <a:latin typeface="Aller"/>
              </a:rPr>
              <a:t>on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</a:rPr>
              <a:t> your finger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  <a:ea typeface="迷你简卡通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ller"/>
                <a:ea typeface="迷你简卡通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37479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</a:rPr>
              <a:t>给你的手指头涂上一些碘酒。</a:t>
            </a:r>
            <a:r>
              <a:rPr b="1" lang="zh-CN" sz="2800" spc="-1" strike="noStrike">
                <a:solidFill>
                  <a:srgbClr val="000000"/>
                </a:solidFill>
                <a:latin typeface="Aller"/>
                <a:ea typeface="迷你简卡通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876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</a:rPr>
              <a:t>我一点也不担心。</a:t>
            </a:r>
            <a:r>
              <a:rPr b="1" lang="zh-CN" sz="2800" spc="-1" strike="noStrike">
                <a:solidFill>
                  <a:srgbClr val="000000"/>
                </a:solidFill>
                <a:latin typeface="Aller"/>
                <a:ea typeface="迷你简卡通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ller"/>
                <a:ea typeface="华文琥珀"/>
              </a:rPr>
              <a:t>Let’s lear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6576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ller"/>
              </a:rPr>
              <a:t>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8120" y="36576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4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’l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1447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3560" y="106668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96360" y="10666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1447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ller"/>
              </a:rPr>
              <a:t>e.g.</a:t>
            </a:r>
            <a:r>
              <a:rPr b="0" lang="en-US" sz="2400" spc="-1" strike="noStrike">
                <a:solidFill>
                  <a:srgbClr val="0000ff"/>
                </a:solidFill>
                <a:latin typeface="Aller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ller"/>
              </a:rPr>
              <a:t>unlucky day</a:t>
            </a:r>
            <a:r>
              <a:rPr b="1" lang="en-US" sz="2800" spc="-1" strike="noStrike">
                <a:solidFill>
                  <a:srgbClr val="000000"/>
                </a:solidFill>
                <a:latin typeface="Aller"/>
                <a:ea typeface="迷你简卡通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114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幸运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1143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幸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倒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9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7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802480" y="4983120"/>
            <a:ext cx="21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uc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92640" y="25351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48480" y="39466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03760" y="1311120"/>
            <a:ext cx="21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068200" y="1706400"/>
            <a:ext cx="3962520" cy="3651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2373480" y="2849400"/>
            <a:ext cx="365760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20480" y="4145040"/>
            <a:ext cx="3886200" cy="55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2361960" y="1905120"/>
            <a:ext cx="3733560" cy="3047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rcRect l="0" t="67432" r="67630" b="0"/>
          <a:stretch/>
        </p:blipFill>
        <p:spPr>
          <a:xfrm>
            <a:off x="6411960" y="1477800"/>
            <a:ext cx="533520" cy="368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3"/>
          </p:cNvPr>
          <p:cNvPicPr/>
          <p:nvPr/>
        </p:nvPicPr>
        <p:blipFill>
          <a:blip r:embed="rId4"/>
          <a:srcRect l="0" t="67432" r="67630" b="0"/>
          <a:stretch/>
        </p:blipFill>
        <p:spPr>
          <a:xfrm>
            <a:off x="5878440" y="5135400"/>
            <a:ext cx="838440" cy="44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5"/>
          </p:cNvPr>
          <p:cNvPicPr/>
          <p:nvPr/>
        </p:nvPicPr>
        <p:blipFill>
          <a:blip r:embed="rId6"/>
          <a:srcRect l="0" t="67432" r="67630" b="0"/>
          <a:stretch/>
        </p:blipFill>
        <p:spPr>
          <a:xfrm>
            <a:off x="6411960" y="2697120"/>
            <a:ext cx="533520" cy="430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rcRect l="0" t="67432" r="67630" b="0"/>
          <a:stretch/>
        </p:blipFill>
        <p:spPr>
          <a:xfrm>
            <a:off x="6411960" y="4095720"/>
            <a:ext cx="533520" cy="43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rcRect l="0" t="67432" r="67630" b="0"/>
          <a:stretch/>
        </p:blipFill>
        <p:spPr>
          <a:xfrm>
            <a:off x="6488280" y="4983120"/>
            <a:ext cx="1371600" cy="808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伤痛，损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983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词，单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8862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介意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38280" y="228600"/>
            <a:ext cx="3886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Can you spell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ller"/>
                <a:ea typeface="迷你简卡通"/>
              </a:rPr>
              <a:t>不幸的，倒霉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09680" y="30492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Let's match!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0834" t="0" r="10834" b="7900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600200" y="1600200"/>
            <a:ext cx="5972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isten and answer :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266688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a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andy’s unlucky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41911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What’s the matter with Sandy in the mo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63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85" dur="indefinite" restart="never" nodeType="tmRoot">
          <p:childTnLst>
            <p:seq>
              <p:cTn id="48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0834" t="0" r="10834" b="80000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600200" y="1600200"/>
            <a:ext cx="5972040" cy="7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Listen and answer :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2514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ate was Sandy’s unlucky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80988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What’s the matter with Sandy in the morn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257800"/>
            <a:ext cx="90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Sandy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ut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his finger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1400" y="3200400"/>
            <a:ext cx="36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rc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3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4800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ut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过去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3657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t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52680" y="1066680"/>
            <a:ext cx="69343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Yesterday i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w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Friday,  1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仿宋_GB2312"/>
              </a:rPr>
              <a:t>th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M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I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w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Sandy’s unluck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51055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Moth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some iodin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仿宋_GB2312"/>
              </a:rPr>
              <a:t>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 Sandy’s finger and i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仿宋_GB2312"/>
              </a:rPr>
              <a:t>hu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a 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69880" y="3048120"/>
            <a:ext cx="55224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morning 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is finge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read-knif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4648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ut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过去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hurt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的过去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352680" y="152280"/>
            <a:ext cx="327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Let's read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44956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2971800" cy="2133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05720" y="1371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t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91520" y="13716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o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82240" y="3048120"/>
            <a:ext cx="3183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the morning, cu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,  bread-kn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5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7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9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7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762120"/>
            <a:ext cx="5639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s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sticking-pl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is fi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0481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evening we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ts of homework, but Sand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d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d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518148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’t do my homework,” 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d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 a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2895480" cy="1981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2895480" cy="1981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895480" y="18288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put…round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缠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97180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in the evening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e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a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didn’t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75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2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7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90920" y="914400"/>
            <a:ext cx="3633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Let's  check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4952880"/>
            <a:ext cx="18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92040" y="17524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2040" y="434340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2040" y="37339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2040" y="236232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1981080"/>
            <a:ext cx="2209680" cy="15264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5105520"/>
            <a:ext cx="1982520" cy="152280"/>
          </a:xfrm>
          <a:custGeom>
            <a:avLst/>
            <a:gdLst>
              <a:gd name="textAreaLeft" fmla="*/ 309600 w 1982520"/>
              <a:gd name="textAreaRight" fmla="*/ 1734840 w 19825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590920"/>
            <a:ext cx="2209680" cy="152280"/>
          </a:xfrm>
          <a:custGeom>
            <a:avLst/>
            <a:gdLst>
              <a:gd name="textAreaLeft" fmla="*/ 345240 w 2209680"/>
              <a:gd name="textAreaRight" fmla="*/ 1933560 w 22096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276720"/>
            <a:ext cx="2133720" cy="1522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962520"/>
            <a:ext cx="2133720" cy="1522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4572000"/>
            <a:ext cx="1981080" cy="15228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5486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5715000"/>
            <a:ext cx="1982880" cy="152280"/>
          </a:xfrm>
          <a:custGeom>
            <a:avLst/>
            <a:gdLst>
              <a:gd name="textAreaLeft" fmla="*/ 309600 w 1982880"/>
              <a:gd name="textAreaRight" fmla="*/ 1735200 w 19828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4876920"/>
            <a:ext cx="18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5320" y="16765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971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4960" y="4267080"/>
            <a:ext cx="11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4600" y="365760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u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4960" y="2286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5486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48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7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11-14T14:11:08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